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8.jpeg" ContentType="image/jpeg"/>
  <Override PartName="/ppt/media/image55.png" ContentType="image/png"/>
  <Override PartName="/ppt/media/image53.jpeg" ContentType="image/jpeg"/>
  <Override PartName="/ppt/media/image23.png" ContentType="image/png"/>
  <Override PartName="/ppt/media/image52.jpeg" ContentType="image/jpeg"/>
  <Override PartName="/ppt/media/image13.png" ContentType="image/png"/>
  <Override PartName="/ppt/media/image1.png" ContentType="image/png"/>
  <Override PartName="/ppt/media/image51.jpeg" ContentType="image/jpeg"/>
  <Override PartName="/ppt/media/image26.jpeg" ContentType="image/jpeg"/>
  <Override PartName="/ppt/media/image42.png" ContentType="image/png"/>
  <Override PartName="/ppt/media/image4.jpeg" ContentType="image/jpeg"/>
  <Override PartName="/ppt/media/image61.jpeg" ContentType="image/jpeg"/>
  <Override PartName="/ppt/media/image25.jpeg" ContentType="image/jpeg"/>
  <Override PartName="/ppt/media/image20.png" ContentType="image/png"/>
  <Override PartName="/ppt/media/image19.gif" ContentType="image/gif"/>
  <Override PartName="/ppt/media/image2.jpeg" ContentType="image/jpeg"/>
  <Override PartName="/ppt/media/image31.png" ContentType="image/png"/>
  <Override PartName="/ppt/media/image41.jpeg" ContentType="image/jpeg"/>
  <Override PartName="/ppt/media/image66.png" ContentType="image/png"/>
  <Override PartName="/ppt/media/image68.wmf" ContentType="image/x-wmf"/>
  <Override PartName="/ppt/media/image64.jpeg" ContentType="image/jpeg"/>
  <Override PartName="/ppt/media/image7.jpeg" ContentType="image/jpeg"/>
  <Override PartName="/ppt/media/image38.jpeg" ContentType="image/jpeg"/>
  <Override PartName="/ppt/media/image50.wmf" ContentType="image/x-wmf"/>
  <Override PartName="/ppt/media/image28.png" ContentType="image/png"/>
  <Override PartName="/ppt/media/image14.png" ContentType="image/png"/>
  <Override PartName="/ppt/media/image27.jpeg" ContentType="image/jpeg"/>
  <Override PartName="/ppt/media/image10.jpeg" ContentType="image/jpeg"/>
  <Override PartName="/ppt/media/image67.jpeg" ContentType="image/jpeg"/>
  <Override PartName="/ppt/media/image21.png" ContentType="image/png"/>
  <Override PartName="/ppt/media/image62.jpeg" ContentType="image/jpeg"/>
  <Override PartName="/ppt/media/image5.jpeg" ContentType="image/jpeg"/>
  <Override PartName="/ppt/media/image18.jpeg" ContentType="image/jpeg"/>
  <Override PartName="/ppt/media/image15.png" ContentType="image/png"/>
  <Override PartName="/ppt/media/image65.png" ContentType="image/png"/>
  <Override PartName="/ppt/media/image46.jpeg" ContentType="image/jpeg"/>
  <Override PartName="/ppt/media/image17.jpeg" ContentType="image/jpeg"/>
  <Override PartName="/ppt/media/image59.png" ContentType="image/png"/>
  <Override PartName="/ppt/media/image22.png" ContentType="image/png"/>
  <Override PartName="/ppt/media/image24.jpeg" ContentType="image/jpeg"/>
  <Override PartName="/ppt/media/image16.jpeg" ContentType="image/jpeg"/>
  <Override PartName="/ppt/media/image60.jpeg" ContentType="image/jpeg"/>
  <Override PartName="/ppt/media/image3.jpeg" ContentType="image/jpeg"/>
  <Override PartName="/ppt/media/image29.png" ContentType="image/png"/>
  <Override PartName="/ppt/media/image6.png" ContentType="image/png"/>
  <Override PartName="/ppt/media/image8.png" ContentType="image/png"/>
  <Override PartName="/ppt/media/image39.jpeg" ContentType="image/jpeg"/>
  <Override PartName="/ppt/media/image12.jpeg" ContentType="image/jpeg"/>
  <Override PartName="/ppt/media/image34.png" ContentType="image/png"/>
  <Override PartName="/ppt/media/image11.jpeg" ContentType="image/jpeg"/>
  <Override PartName="/ppt/media/image36.png" ContentType="image/png"/>
  <Override PartName="/ppt/media/image9.jpeg" ContentType="image/jpeg"/>
  <Override PartName="/ppt/media/image30.jpeg" ContentType="image/jpeg"/>
  <Override PartName="/ppt/media/image32.jpeg" ContentType="image/jpeg"/>
  <Override PartName="/ppt/media/image54.jpeg" ContentType="image/jpeg"/>
  <Override PartName="/ppt/media/image33.png" ContentType="image/png"/>
  <Override PartName="/ppt/media/image56.jpeg" ContentType="image/jpeg"/>
  <Override PartName="/ppt/media/image35.png" ContentType="image/png"/>
  <Override PartName="/ppt/media/image37.png" ContentType="image/png"/>
  <Override PartName="/ppt/media/image40.jpeg" ContentType="image/jpeg"/>
  <Override PartName="/ppt/media/image43.png" ContentType="image/png"/>
  <Override PartName="/ppt/media/image57.jpeg" ContentType="image/jpeg"/>
  <Override PartName="/ppt/media/image63.png" ContentType="image/png"/>
  <Override PartName="/ppt/media/image44.jpeg" ContentType="image/jpeg"/>
  <Override PartName="/ppt/media/image45.png" ContentType="image/png"/>
  <Override PartName="/ppt/media/image47.jpeg" ContentType="image/jpeg"/>
  <Override PartName="/ppt/media/image48.jpeg" ContentType="image/jpeg"/>
  <Override PartName="/ppt/media/image49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FA781-C389-44ED-9616-314B7005F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B2875-2814-4205-AF9E-1F23334B5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06CC6-B336-4367-99C7-05E5856EF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0FEF6-FAA2-459E-BFCE-C67644E06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9F821-F4FE-4847-883D-DDD091F07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EA8BB-5372-4A49-90C4-29D8E0A4A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D00AE-1A77-4B25-9143-92D9AD0DD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03C6E-4ECA-48A5-B587-52C6FBF71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7B302-7580-49C1-823A-ABFC655B9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32C2B-5EB3-4227-AA6C-F5760D891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6C887-9386-4C33-96EC-31F4E7BB9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C9309-1755-4240-972D-BC76D84BD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Book Antiqu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Book Antiqu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Book Antiqu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Book Antiqu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Book Antiqu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Book Antiqu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32B0D-CDF5-4D86-B05D-0F32E2EA3AFD}" type="slidenum">
              <a:rPr b="0" lang="en-US" sz="14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0.wmf"/><Relationship Id="rId2" Type="http://schemas.openxmlformats.org/officeDocument/2006/relationships/image" Target="../media/image51.jpeg"/><Relationship Id="rId3" Type="http://schemas.openxmlformats.org/officeDocument/2006/relationships/image" Target="../media/image52.jpeg"/><Relationship Id="rId4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image" Target="../media/image55.png"/><Relationship Id="rId3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image" Target="../media/image61.jpeg"/><Relationship Id="rId3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png"/><Relationship Id="rId6" Type="http://schemas.openxmlformats.org/officeDocument/2006/relationships/image" Target="../media/image7.jpeg"/><Relationship Id="rId7" Type="http://schemas.openxmlformats.org/officeDocument/2006/relationships/image" Target="../media/image8.pn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1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4.jpe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67.jpeg"/><Relationship Id="rId2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jpeg"/><Relationship Id="rId3" Type="http://schemas.openxmlformats.org/officeDocument/2006/relationships/image" Target="../media/image8.pn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454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8356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267080" y="1143000"/>
            <a:ext cx="4876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PROTIST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4038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Cilliates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4762440" cy="33336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5029200" y="3429000"/>
            <a:ext cx="4114800" cy="34290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0" y="1523880"/>
            <a:ext cx="4952880" cy="359892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2971800" y="441972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Oral groove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rcRect l="0" t="0" r="0" b="4841"/>
          <a:stretch/>
        </p:blipFill>
        <p:spPr>
          <a:xfrm>
            <a:off x="0" y="865080"/>
            <a:ext cx="9144000" cy="59929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Paramecium Conjugaton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39625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Zooflagellates</a:t>
            </a: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Book Antiqua"/>
              </a:rPr>
              <a:t>(zoomastigote)</a:t>
            </a:r>
            <a:endParaRPr b="0" lang="en-US" sz="3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48320" y="457200"/>
            <a:ext cx="449568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Locomotion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flagella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Lifestyle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most free-living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some parasitic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Distinctive features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most carried by vectors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from reservoir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Examples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Trypanosoma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African s.s.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Giardia</a:t>
            </a: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685800" y="1828800"/>
            <a:ext cx="357012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Vector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An organism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usually an arthropod or mollusca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Carries a pathogen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without being effected by it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Example : Bubonic plague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Flea carries the disease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Flagellates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228600" y="1752480"/>
            <a:ext cx="4056120" cy="38419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5105520" y="1828800"/>
            <a:ext cx="3144600" cy="40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3657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Sporozoan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(Apicomplexians)</a:t>
            </a: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48320" y="762120"/>
            <a:ext cx="449568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Locomotion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none (flagella in some phases)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Lifestyle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all parasitic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Examples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Plasmodium vivax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Book Antiqu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causes Malaria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Toxoplasma gondii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Book Antiqu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causes toxoplasmosis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2376360"/>
            <a:ext cx="4495680" cy="28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Sporozoans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1066680"/>
            <a:ext cx="3809880" cy="31449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3301920" y="3352680"/>
            <a:ext cx="5842080" cy="31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ook Antiqua"/>
              </a:rPr>
              <a:t>Mosquito Fact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Mosquitoes are responsible for more human death than any other living creature. 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Male mosquitoes do not bite. The real risk is  from female mosquitoes which bite when in search of a blood meal to provide protein for their eggs. 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Most adult mosquitoes live for about two weeks. 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There are over 2,500 species of mosquitoes in the world. 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The welts that appear after a mosquito leaves isn't from the bite - it's an allergic reaction to saliva the mosquito injected under the skin to prevent the blood from clotting  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Mosquitoes like dark areas and will suck the juice out of plants in order to live - including tree leaves, grass, shrubs, etc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6029280" y="3657600"/>
            <a:ext cx="10479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Algae</a:t>
            </a: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Book Antiqua"/>
              </a:rPr>
              <a:t>Plant like Protists</a:t>
            </a:r>
            <a:endParaRPr b="0" lang="en-US" sz="3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Autotrophic (all have chlorophyll a)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Have cell wal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Alga are divided by pigments, cell wall types, and food storage compounds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YI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Thallus - body portion of an algae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Blue green algae are not protists at all-- they are Cyanobacteria, a moneran 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(lab)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Watch the green algae, because of their similarities with them, they are probably the ancestors of modern plants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8580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Protist classification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1523880"/>
            <a:ext cx="861048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eukaryotic 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mostly unicellular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he protist kingdom is a “dumping ground” 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–includes organisms that have exceptions to the many rules that scientists attempt to apply to them.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09480" y="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Algae:   Plant-like Protists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1148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Unicellular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Phylum</a:t>
            </a: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 Euglenophyta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Euglena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Phylum </a:t>
            </a:r>
            <a:r>
              <a:rPr b="1" lang="en-US" sz="2800" spc="-1" strike="noStrike">
                <a:solidFill>
                  <a:srgbClr val="ffcc00"/>
                </a:solidFill>
                <a:latin typeface="Book Antiqua"/>
              </a:rPr>
              <a:t>Chyrsophyta</a:t>
            </a:r>
            <a:r>
              <a:rPr b="1" lang="en-US" sz="2800" spc="-1" strike="noStrike">
                <a:solidFill>
                  <a:srgbClr val="b46802"/>
                </a:solidFill>
                <a:latin typeface="Book Antiqu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(Bacillariophyta)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27920" indent="-280080">
              <a:spcBef>
                <a:spcPts val="601"/>
              </a:spcBef>
              <a:buClr>
                <a:srgbClr val="ffcc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Book Antiqua"/>
              </a:rPr>
              <a:t>golden algae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diatoms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Phylum </a:t>
            </a:r>
            <a:r>
              <a:rPr b="1" lang="en-US" sz="2800" spc="-1" strike="noStrike">
                <a:solidFill>
                  <a:srgbClr val="ff3300"/>
                </a:solidFill>
                <a:latin typeface="Book Antiqua"/>
              </a:rPr>
              <a:t>Pyrrophyta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Book Antiqua"/>
              </a:rPr>
              <a:t>fire algae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Dinoflagellates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00600" y="1294920"/>
            <a:ext cx="4114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Multicellular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Phylum</a:t>
            </a: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en-US" sz="2800" spc="-1" strike="noStrike">
                <a:solidFill>
                  <a:srgbClr val="800000"/>
                </a:solidFill>
                <a:latin typeface="Book Antiqua"/>
              </a:rPr>
              <a:t>Rhodophyta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8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Book Antiqua"/>
              </a:rPr>
              <a:t>red algae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red seaweed. 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Phylum </a:t>
            </a:r>
            <a:r>
              <a:rPr b="1" lang="en-US" sz="2800" spc="-1" strike="noStrike">
                <a:solidFill>
                  <a:srgbClr val="cc6600"/>
                </a:solidFill>
                <a:latin typeface="Book Antiqua"/>
              </a:rPr>
              <a:t>Phaeophyta</a:t>
            </a:r>
            <a:r>
              <a:rPr b="0" lang="en-US" sz="2800" spc="-1" strike="noStrike">
                <a:solidFill>
                  <a:srgbClr val="cc6600"/>
                </a:solidFill>
                <a:latin typeface="Book Antiqu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00"/>
                </a:solidFill>
                <a:latin typeface="Book Antiqua"/>
              </a:rPr>
              <a:t>brown algae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kelp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Phylum</a:t>
            </a: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en-US" sz="2800" spc="-1" strike="noStrike">
                <a:solidFill>
                  <a:srgbClr val="009900"/>
                </a:solidFill>
                <a:latin typeface="Book Antiqua"/>
              </a:rPr>
              <a:t>Chlorophyta</a:t>
            </a:r>
            <a:r>
              <a:rPr b="0" lang="en-US" sz="2800" spc="-1" strike="noStrike">
                <a:solidFill>
                  <a:srgbClr val="009900"/>
                </a:solidFill>
                <a:latin typeface="Book Antiqu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0099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Book Antiqua"/>
              </a:rPr>
              <a:t>green algae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Book Antiqua"/>
              </a:rPr>
              <a:t>Volvox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314880" cy="29811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334120" y="0"/>
            <a:ext cx="380988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437920" y="380520"/>
            <a:ext cx="487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Book Antiqua"/>
              </a:rPr>
              <a:t>Chlorophyta</a:t>
            </a:r>
            <a:br>
              <a:rPr sz="4400"/>
            </a:br>
            <a:r>
              <a:rPr b="0" lang="en-US" sz="4400" spc="-1" strike="noStrike">
                <a:solidFill>
                  <a:srgbClr val="006600"/>
                </a:solidFill>
                <a:latin typeface="Book Antiqua"/>
              </a:rPr>
              <a:t>“green algae”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42640" y="2590920"/>
            <a:ext cx="4876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Pigments </a:t>
            </a: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(like plants) 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chl a,b 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carotenoids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Cell wall = cellulose </a:t>
            </a: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(like plants) 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torage = starch </a:t>
            </a: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(like plants) 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Book Antiqua"/>
              </a:rPr>
              <a:t>Ancestors of plants</a:t>
            </a: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Book Antiqua"/>
              </a:rPr>
              <a:t>Can be unicellular, filimentous, colonial, and multicellular</a:t>
            </a: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Book Antiqua"/>
              </a:rPr>
              <a:t>Motile  - uni and colonial</a:t>
            </a: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Book Antiqua"/>
              </a:rPr>
              <a:t>Habitat – fresh water</a:t>
            </a: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" name=""/>
          <p:cNvGrpSpPr/>
          <p:nvPr/>
        </p:nvGrpSpPr>
        <p:grpSpPr>
          <a:xfrm>
            <a:off x="6781680" y="1295280"/>
            <a:ext cx="2057400" cy="3810240"/>
            <a:chOff x="6781680" y="1295280"/>
            <a:chExt cx="2057400" cy="3810240"/>
          </a:xfrm>
        </p:grpSpPr>
        <p:pic>
          <p:nvPicPr>
            <p:cNvPr id="117" name="" descr=""/>
            <p:cNvPicPr/>
            <p:nvPr/>
          </p:nvPicPr>
          <p:blipFill>
            <a:blip r:embed="rId1"/>
            <a:srcRect l="68977" t="29418" r="0" b="0"/>
            <a:stretch/>
          </p:blipFill>
          <p:spPr>
            <a:xfrm>
              <a:off x="6781680" y="1295280"/>
              <a:ext cx="2057400" cy="381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"/>
            <p:cNvSpPr txBox="1"/>
            <p:nvPr/>
          </p:nvSpPr>
          <p:spPr>
            <a:xfrm>
              <a:off x="6781680" y="1295280"/>
              <a:ext cx="2057400" cy="3810240"/>
            </a:xfrm>
            <a:prstGeom prst="rect">
              <a:avLst/>
            </a:prstGeom>
            <a:noFill/>
            <a:ln w="0">
              <a:noFill/>
            </a:ln>
          </p:spPr>
          <p:txBody>
            <a:bodyPr anchor="t">
              <a:norm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Book Antiqu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pic>
        <p:nvPicPr>
          <p:cNvPr id="119" name="" descr=""/>
          <p:cNvPicPr/>
          <p:nvPr/>
        </p:nvPicPr>
        <p:blipFill>
          <a:blip r:embed="rId2"/>
          <a:srcRect l="26439" t="48008" r="31041" b="2588"/>
          <a:stretch/>
        </p:blipFill>
        <p:spPr>
          <a:xfrm>
            <a:off x="5105520" y="2971800"/>
            <a:ext cx="2819160" cy="266688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Algae Structure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57913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Unicellular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single cell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phytoplankton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Filamentous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the cells divide but do not separate causing long strands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cells do not differentiate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Colonial</a:t>
            </a: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groups of cells acting in a coordinated manner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Multicellular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Some differentiation 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3"/>
          <a:srcRect l="0" t="0" r="64375" b="52003"/>
          <a:stretch/>
        </p:blipFill>
        <p:spPr>
          <a:xfrm>
            <a:off x="4952880" y="0"/>
            <a:ext cx="236232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Example 1 of Chlorophyt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“green algae”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0" y="1219320"/>
            <a:ext cx="9144000" cy="39654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914400" y="5164200"/>
            <a:ext cx="6248520" cy="17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i="1" lang="en-US" sz="4800" spc="-1" strike="noStrike">
                <a:solidFill>
                  <a:srgbClr val="000000"/>
                </a:solidFill>
                <a:latin typeface="Book Antiqua"/>
              </a:rPr>
              <a:t>Chlamydomonos</a:t>
            </a:r>
            <a:endParaRPr b="0" lang="en-US" sz="48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-   Unicellular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Book Antiqua"/>
              </a:rPr>
              <a:t>- Motile, Flagellated</a:t>
            </a: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rcRect l="62501" t="2400" r="0" b="49616"/>
          <a:stretch/>
        </p:blipFill>
        <p:spPr>
          <a:xfrm>
            <a:off x="7313760" y="5334120"/>
            <a:ext cx="183024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426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Example #2 of Chlorophyt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“green algae”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4114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Book Antiqua"/>
              </a:rPr>
              <a:t>Spirogyra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ilimentous 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- the cells divide but do not separate causing long strands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-cells do not differentiate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4267080" y="0"/>
            <a:ext cx="4876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4267080" y="0"/>
            <a:ext cx="4876920" cy="6858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878360" cy="685800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403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Example #3 of Chlorophyt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“green algae”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35053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Book Antiqua"/>
              </a:rPr>
              <a:t>Volvox , Pandorina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Colonial: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Cells have different roles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flagellated cells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photosynthetic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gametocytes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Cells not trully differentiated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3"/>
          <a:srcRect l="0" t="6964" r="63862" b="59955"/>
          <a:stretch/>
        </p:blipFill>
        <p:spPr>
          <a:xfrm>
            <a:off x="6172200" y="4975200"/>
            <a:ext cx="2971800" cy="188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990720" y="0"/>
            <a:ext cx="3378240" cy="380988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266720" y="990360"/>
            <a:ext cx="487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Example #4 of Chlorophyta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“green algae”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3200400" y="2590920"/>
            <a:ext cx="5943600" cy="403848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0" y="3885840"/>
            <a:ext cx="36576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Book Antiqua"/>
              </a:rPr>
              <a:t>Ulva 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(sea lettuce)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Multicellular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Reproduces by alternation of generations 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533520" y="1905120"/>
            <a:ext cx="3657600" cy="46479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5067360" y="0"/>
            <a:ext cx="4076640" cy="200016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4952880" y="2209320"/>
            <a:ext cx="38102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663300"/>
                </a:solidFill>
                <a:latin typeface="Book Antiqua"/>
              </a:rPr>
              <a:t>Pigments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6633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Book Antiqua"/>
              </a:rPr>
              <a:t>chl  a,c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6633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Book Antiqua"/>
              </a:rPr>
              <a:t>carotenoids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6633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Book Antiqua"/>
              </a:rPr>
              <a:t>Fucoxanthin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title"/>
          </p:nvPr>
        </p:nvSpPr>
        <p:spPr>
          <a:xfrm>
            <a:off x="228600" y="304560"/>
            <a:ext cx="4495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Book Antiqua"/>
              </a:rPr>
              <a:t>Phaeophyta</a:t>
            </a:r>
            <a:br>
              <a:rPr sz="4400"/>
            </a:br>
            <a:r>
              <a:rPr b="0" lang="en-US" sz="4400" spc="-1" strike="noStrike">
                <a:solidFill>
                  <a:srgbClr val="663300"/>
                </a:solidFill>
                <a:latin typeface="Book Antiqua"/>
              </a:rPr>
              <a:t>“brown algae”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380880" y="990360"/>
            <a:ext cx="426744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33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Book Antiqua"/>
              </a:rPr>
              <a:t>Examples 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6633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Book Antiqua"/>
              </a:rPr>
              <a:t>kelp</a:t>
            </a:r>
            <a:r>
              <a:rPr b="0" lang="en-US" sz="2800" spc="-1" strike="noStrike">
                <a:solidFill>
                  <a:srgbClr val="663300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663300"/>
                </a:solidFill>
                <a:latin typeface="Book Antiqu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Book Antiqu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parts of kelp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Book Antiqu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holdfast,  stipe, 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Book Antiqu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blade, 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Book Antiqu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bladder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6633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Book Antiqua"/>
              </a:rPr>
              <a:t>temperate seaweed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6633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Book Antiqua"/>
              </a:rPr>
              <a:t>All multicellular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habitat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salt water</a:t>
            </a: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nonmotile*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5334120" y="1181160"/>
            <a:ext cx="3446280" cy="567684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Phaeophyta“brown algae”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46" name=""/>
          <p:cNvSpPr/>
          <p:nvPr/>
        </p:nvSpPr>
        <p:spPr>
          <a:xfrm>
            <a:off x="7162920" y="47242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47" name=""/>
          <p:cNvSpPr/>
          <p:nvPr/>
        </p:nvSpPr>
        <p:spPr>
          <a:xfrm>
            <a:off x="7391520" y="35812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48" name=""/>
          <p:cNvSpPr/>
          <p:nvPr/>
        </p:nvSpPr>
        <p:spPr>
          <a:xfrm>
            <a:off x="7010280" y="56386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49" name=""/>
          <p:cNvSpPr/>
          <p:nvPr/>
        </p:nvSpPr>
        <p:spPr>
          <a:xfrm>
            <a:off x="6400800" y="62485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50" name=""/>
          <p:cNvSpPr/>
          <p:nvPr/>
        </p:nvSpPr>
        <p:spPr>
          <a:xfrm>
            <a:off x="8305920" y="32767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blade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51" name=""/>
          <p:cNvSpPr/>
          <p:nvPr/>
        </p:nvSpPr>
        <p:spPr>
          <a:xfrm>
            <a:off x="7772400" y="44197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bladder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52" name=""/>
          <p:cNvSpPr/>
          <p:nvPr/>
        </p:nvSpPr>
        <p:spPr>
          <a:xfrm>
            <a:off x="8077320" y="53341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stipe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53" name=""/>
          <p:cNvSpPr/>
          <p:nvPr/>
        </p:nvSpPr>
        <p:spPr>
          <a:xfrm>
            <a:off x="7848720" y="6019920"/>
            <a:ext cx="129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holdfast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5730840" y="209520"/>
            <a:ext cx="3413160" cy="664848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Book Antiqua"/>
              </a:rPr>
              <a:t>Rhodophyta</a:t>
            </a:r>
            <a:br>
              <a:rPr sz="4400"/>
            </a:br>
            <a:r>
              <a:rPr b="0" lang="en-US" sz="4400" spc="-1" strike="noStrike">
                <a:solidFill>
                  <a:srgbClr val="ff3300"/>
                </a:solidFill>
                <a:latin typeface="Book Antiqua"/>
              </a:rPr>
              <a:t>“red algae”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0" y="1828800"/>
            <a:ext cx="4664160" cy="480060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809520" y="2209320"/>
            <a:ext cx="2667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pigments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chl a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carotenoids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Phycoblins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cell wal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Ca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Book Antiqu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Kingdom Protista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281916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Animal like -- Protozoa  (zooplankton)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Plant like-- Alga (phytoplankton)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ungi like -- Slime and Water Molds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-304920" y="380520"/>
            <a:ext cx="457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Rhodophyta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“red algae”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228600" y="2590920"/>
            <a:ext cx="3962520" cy="387648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3657600" y="0"/>
            <a:ext cx="5486400" cy="374184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4114800" y="2362320"/>
            <a:ext cx="32004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tropical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red seaweed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multicellular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habitat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salt water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nonmotile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62" name=""/>
          <p:cNvSpPr/>
          <p:nvPr/>
        </p:nvSpPr>
        <p:spPr>
          <a:xfrm>
            <a:off x="990720" y="64008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agar”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-1066680" y="0"/>
            <a:ext cx="10210680" cy="68706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-360" y="3657600"/>
            <a:ext cx="33526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pigments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chl a,c</a:t>
            </a: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carotenoids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peridinum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cell wal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cellulose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food storage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starch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title"/>
          </p:nvPr>
        </p:nvSpPr>
        <p:spPr>
          <a:xfrm>
            <a:off x="3504960" y="380520"/>
            <a:ext cx="51814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Pyrrophyta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“fire algae”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dinoflagellata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66" name=""/>
          <p:cNvSpPr/>
          <p:nvPr/>
        </p:nvSpPr>
        <p:spPr>
          <a:xfrm>
            <a:off x="5181480" y="4343400"/>
            <a:ext cx="3581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31520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-360" y="1905120"/>
            <a:ext cx="3505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Book Antiqua"/>
              </a:rPr>
              <a:t>Examples: dinoflagellates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Book Antiqua"/>
              </a:rPr>
              <a:t>unicellular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349"/>
              </a:spcBef>
              <a:buClr>
                <a:srgbClr val="cccc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ccff"/>
                </a:solidFill>
                <a:latin typeface="Book Antiqua"/>
              </a:rPr>
              <a:t>habitat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349"/>
              </a:spcBef>
              <a:buClr>
                <a:srgbClr val="cccc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ccff"/>
                </a:solidFill>
                <a:latin typeface="Book Antiqua"/>
              </a:rPr>
              <a:t>fresh/salt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349"/>
              </a:spcBef>
              <a:buClr>
                <a:srgbClr val="cccc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ccff"/>
                </a:solidFill>
                <a:latin typeface="Book Antiqua"/>
              </a:rPr>
              <a:t>motile: 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349"/>
              </a:spcBef>
              <a:buClr>
                <a:srgbClr val="cccc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ccff"/>
                </a:solidFill>
                <a:latin typeface="Book Antiqua"/>
              </a:rPr>
              <a:t>biflagellates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title"/>
          </p:nvPr>
        </p:nvSpPr>
        <p:spPr>
          <a:xfrm>
            <a:off x="-360" y="228240"/>
            <a:ext cx="380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ccff"/>
                </a:solidFill>
                <a:latin typeface="Book Antiqua"/>
              </a:rPr>
              <a:t>Pyrrophyta</a:t>
            </a:r>
            <a:br>
              <a:rPr sz="4400"/>
            </a:br>
            <a:r>
              <a:rPr b="0" lang="en-US" sz="4400" spc="-1" strike="noStrike">
                <a:solidFill>
                  <a:srgbClr val="ccccff"/>
                </a:solidFill>
                <a:latin typeface="Book Antiqua"/>
              </a:rPr>
              <a:t>“fire algae”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-417600"/>
            <a:ext cx="9144000" cy="72756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48320" y="0"/>
            <a:ext cx="4114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ccff"/>
                </a:solidFill>
                <a:latin typeface="Book Antiqua"/>
              </a:rPr>
              <a:t>Pyrrophyta</a:t>
            </a:r>
            <a:br>
              <a:rPr sz="4400"/>
            </a:br>
            <a:r>
              <a:rPr b="0" lang="en-US" sz="4400" spc="-1" strike="noStrike">
                <a:solidFill>
                  <a:srgbClr val="ccccff"/>
                </a:solidFill>
                <a:latin typeface="Book Antiqua"/>
              </a:rPr>
              <a:t>Dinoflagellates</a:t>
            </a:r>
            <a:br>
              <a:rPr sz="4400"/>
            </a:br>
            <a:r>
              <a:rPr b="0" lang="en-US" sz="4400" spc="-1" strike="noStrike">
                <a:solidFill>
                  <a:srgbClr val="ccccff"/>
                </a:solidFill>
                <a:latin typeface="Book Antiqua"/>
              </a:rPr>
              <a:t>red tide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2" name=""/>
          <p:cNvSpPr/>
          <p:nvPr/>
        </p:nvSpPr>
        <p:spPr>
          <a:xfrm>
            <a:off x="5334120" y="1523880"/>
            <a:ext cx="358128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Book Antiqua"/>
              </a:rPr>
              <a:t>cause “red tide”</a:t>
            </a:r>
            <a:br>
              <a:rPr sz="2400"/>
            </a:br>
            <a:r>
              <a:rPr b="0" lang="en-US" sz="2400" spc="-1" strike="noStrike">
                <a:solidFill>
                  <a:srgbClr val="ccccff"/>
                </a:solidFill>
                <a:latin typeface="Book Antiqua"/>
              </a:rPr>
              <a:t>often phosphorescent</a:t>
            </a:r>
            <a:r>
              <a:rPr b="0" lang="en-US" sz="2400" spc="-1" strike="noStrike">
                <a:solidFill>
                  <a:srgbClr val="ccccff"/>
                </a:solidFill>
                <a:latin typeface="Book Antiqu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Book Antiqua"/>
              </a:rPr>
              <a:t>Algal bloom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Book Antiqua"/>
              </a:rPr>
              <a:t>Toxins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981080" y="228240"/>
            <a:ext cx="5639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Chrysophyta</a:t>
            </a: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	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“golden algae”</a:t>
            </a: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-360" y="1905120"/>
            <a:ext cx="3962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Pigment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chl a,b 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carotenoids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fucoxanthin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cell wal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ilica cell wal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ood storage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oil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3657600" y="2535120"/>
            <a:ext cx="5486400" cy="432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Chrysophyta</a:t>
            </a: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“golden algae”</a:t>
            </a: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44197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Example:  diatoms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Unicellular (some colonial)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motile : raphe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habitat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salt/fresh water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reproduction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asexua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exua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6527880" y="1828800"/>
            <a:ext cx="2616120" cy="502920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3733920" y="4290840"/>
            <a:ext cx="2895480" cy="256716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4343400" y="1981080"/>
            <a:ext cx="243828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FORM: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Diatomaceous Earth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Petroleum Deposits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rcRect l="0" t="0" r="2945" b="2204"/>
          <a:stretch/>
        </p:blipFill>
        <p:spPr>
          <a:xfrm>
            <a:off x="-152280" y="-50760"/>
            <a:ext cx="9448560" cy="6908760"/>
          </a:xfrm>
          <a:prstGeom prst="rect">
            <a:avLst/>
          </a:prstGeom>
          <a:ln w="0">
            <a:noFill/>
          </a:ln>
        </p:spPr>
      </p:pic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676520" y="457200"/>
            <a:ext cx="5790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Euglenophyta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-360" y="2209320"/>
            <a:ext cx="4724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Pigment 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chl a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chl b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carotenoids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Cell Wal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protein pellicle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ood Storage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polysaccharide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84" name=""/>
          <p:cNvSpPr/>
          <p:nvPr/>
        </p:nvSpPr>
        <p:spPr>
          <a:xfrm>
            <a:off x="5181480" y="1676520"/>
            <a:ext cx="3505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19360" y="380880"/>
            <a:ext cx="4343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Euglenophyta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2743200" y="2819520"/>
            <a:ext cx="6400800" cy="3798720"/>
          </a:xfrm>
          <a:prstGeom prst="rect">
            <a:avLst/>
          </a:prstGeom>
          <a:ln w="0">
            <a:noFill/>
          </a:ln>
        </p:spPr>
      </p:pic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-360" y="228600"/>
            <a:ext cx="5334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ook Antiqua"/>
              </a:rPr>
              <a:t>Examples:</a:t>
            </a: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  <a:p>
            <a:pPr lvl="1" marL="676080" indent="-2599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Book Antiqua"/>
              </a:rPr>
              <a:t>Euglena,</a:t>
            </a:r>
            <a:endParaRPr b="0" lang="en-US" sz="2500" spc="-1" strike="noStrike">
              <a:solidFill>
                <a:srgbClr val="000000"/>
              </a:solidFill>
              <a:latin typeface="Book Antiqua"/>
            </a:endParaRPr>
          </a:p>
          <a:p>
            <a:pPr lvl="1" marL="676080" indent="-2599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Book Antiqua"/>
              </a:rPr>
              <a:t>Astasia  (can lose its chloroplasts and become heterotrophic)</a:t>
            </a:r>
            <a:r>
              <a:rPr b="0" lang="en-US" sz="2500" spc="-1" strike="noStrike">
                <a:solidFill>
                  <a:srgbClr val="000000"/>
                </a:solidFill>
                <a:latin typeface="Book Antiqua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Book Antiqua"/>
            </a:endParaRPr>
          </a:p>
          <a:p>
            <a:pPr marL="312120" indent="-31212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ook Antiqua"/>
              </a:rPr>
              <a:t>all unicellular</a:t>
            </a: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  <a:p>
            <a:pPr marL="31212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  <a:p>
            <a:pPr marL="31212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  <a:p>
            <a:pPr marL="312120" indent="-3121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motile: flagella</a:t>
            </a: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  <a:p>
            <a:pPr marL="312120" indent="-3121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Habitat</a:t>
            </a: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  <a:p>
            <a:pPr lvl="1" marL="676080" indent="-2599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fresh water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88" name=""/>
          <p:cNvSpPr/>
          <p:nvPr/>
        </p:nvSpPr>
        <p:spPr>
          <a:xfrm>
            <a:off x="3505320" y="601992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eyespot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" descr=""/>
          <p:cNvPicPr/>
          <p:nvPr/>
        </p:nvPicPr>
        <p:blipFill>
          <a:blip r:embed="rId1"/>
          <a:srcRect l="0" t="0" r="0" b="4446"/>
          <a:stretch/>
        </p:blipFill>
        <p:spPr>
          <a:xfrm>
            <a:off x="1541520" y="0"/>
            <a:ext cx="6343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faffe"/>
            </a:gs>
            <a:gs pos="100000">
              <a:srgbClr val="abab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985000" cy="685800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0" y="0"/>
            <a:ext cx="5867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Fungus-like protists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92" name=""/>
          <p:cNvSpPr/>
          <p:nvPr/>
        </p:nvSpPr>
        <p:spPr>
          <a:xfrm>
            <a:off x="3124080" y="914400"/>
            <a:ext cx="6019920" cy="59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Heterotrophic with external digestion.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Absorptive nutrition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similar lifestyle as fungi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multicellular multinucleate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2 groups (based on cell type) 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Water molds are composed of</a:t>
            </a: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 filaments 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of cells. 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Phylum Oomycota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Slime molds are </a:t>
            </a: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amoeba-like.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Phylum Myxomycota  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Phylum Acrasiomycota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Protozoa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Heterotrophic (eat dead things or other organisms)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No cell walls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Are all capable of asexual reproduction usually by binary fission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4265640" y="0"/>
            <a:ext cx="4878360" cy="68580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878360" cy="6858000"/>
          </a:xfrm>
          <a:prstGeom prst="rect">
            <a:avLst/>
          </a:prstGeom>
          <a:ln w="0">
            <a:noFill/>
          </a:ln>
        </p:spPr>
      </p:pic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Book Antiqua"/>
              </a:rPr>
              <a:t>Oomycetes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4495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Known as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water molds”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have cellulose in cell wal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ex water molds and downy mildews 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have branching filaments called hyphae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-360" y="4114800"/>
            <a:ext cx="38098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Causes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one cause of “ick”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grows on decaying aquatic life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3733920" y="3343320"/>
            <a:ext cx="5410080" cy="35146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99" name=""/>
          <p:cNvSpPr/>
          <p:nvPr/>
        </p:nvSpPr>
        <p:spPr>
          <a:xfrm>
            <a:off x="4114800" y="5257800"/>
            <a:ext cx="22860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00" name=""/>
          <p:cNvSpPr/>
          <p:nvPr/>
        </p:nvSpPr>
        <p:spPr>
          <a:xfrm flipH="1">
            <a:off x="4114440" y="5257800"/>
            <a:ext cx="3049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01" name=""/>
          <p:cNvSpPr/>
          <p:nvPr/>
        </p:nvSpPr>
        <p:spPr>
          <a:xfrm>
            <a:off x="5378400" y="3665520"/>
            <a:ext cx="3529080" cy="1324080"/>
          </a:xfrm>
          <a:custGeom>
            <a:avLst/>
            <a:gdLst/>
            <a:ahLst/>
            <a:rect l="l" t="t" r="r" b="b"/>
            <a:pathLst>
              <a:path w="2223" h="834">
                <a:moveTo>
                  <a:pt x="0" y="750"/>
                </a:moveTo>
                <a:cubicBezTo>
                  <a:pt x="55" y="777"/>
                  <a:pt x="103" y="828"/>
                  <a:pt x="164" y="832"/>
                </a:cubicBezTo>
                <a:cubicBezTo>
                  <a:pt x="189" y="834"/>
                  <a:pt x="185" y="786"/>
                  <a:pt x="188" y="762"/>
                </a:cubicBezTo>
                <a:cubicBezTo>
                  <a:pt x="201" y="672"/>
                  <a:pt x="204" y="581"/>
                  <a:pt x="212" y="491"/>
                </a:cubicBezTo>
                <a:cubicBezTo>
                  <a:pt x="224" y="503"/>
                  <a:pt x="233" y="518"/>
                  <a:pt x="247" y="527"/>
                </a:cubicBezTo>
                <a:cubicBezTo>
                  <a:pt x="368" y="608"/>
                  <a:pt x="180" y="267"/>
                  <a:pt x="306" y="432"/>
                </a:cubicBezTo>
                <a:cubicBezTo>
                  <a:pt x="374" y="364"/>
                  <a:pt x="310" y="406"/>
                  <a:pt x="388" y="468"/>
                </a:cubicBezTo>
                <a:cubicBezTo>
                  <a:pt x="407" y="484"/>
                  <a:pt x="435" y="483"/>
                  <a:pt x="459" y="491"/>
                </a:cubicBezTo>
                <a:cubicBezTo>
                  <a:pt x="538" y="545"/>
                  <a:pt x="440" y="491"/>
                  <a:pt x="588" y="491"/>
                </a:cubicBezTo>
                <a:cubicBezTo>
                  <a:pt x="628" y="491"/>
                  <a:pt x="667" y="507"/>
                  <a:pt x="706" y="515"/>
                </a:cubicBezTo>
                <a:cubicBezTo>
                  <a:pt x="737" y="546"/>
                  <a:pt x="771" y="576"/>
                  <a:pt x="800" y="609"/>
                </a:cubicBezTo>
                <a:cubicBezTo>
                  <a:pt x="826" y="638"/>
                  <a:pt x="838" y="681"/>
                  <a:pt x="870" y="703"/>
                </a:cubicBezTo>
                <a:cubicBezTo>
                  <a:pt x="882" y="711"/>
                  <a:pt x="894" y="688"/>
                  <a:pt x="906" y="680"/>
                </a:cubicBezTo>
                <a:cubicBezTo>
                  <a:pt x="914" y="656"/>
                  <a:pt x="923" y="633"/>
                  <a:pt x="929" y="609"/>
                </a:cubicBezTo>
                <a:cubicBezTo>
                  <a:pt x="949" y="524"/>
                  <a:pt x="933" y="476"/>
                  <a:pt x="953" y="609"/>
                </a:cubicBezTo>
                <a:cubicBezTo>
                  <a:pt x="969" y="578"/>
                  <a:pt x="982" y="545"/>
                  <a:pt x="1000" y="515"/>
                </a:cubicBezTo>
                <a:cubicBezTo>
                  <a:pt x="1010" y="498"/>
                  <a:pt x="1025" y="451"/>
                  <a:pt x="1035" y="468"/>
                </a:cubicBezTo>
                <a:cubicBezTo>
                  <a:pt x="1075" y="539"/>
                  <a:pt x="1082" y="625"/>
                  <a:pt x="1106" y="703"/>
                </a:cubicBezTo>
                <a:cubicBezTo>
                  <a:pt x="1191" y="589"/>
                  <a:pt x="1268" y="472"/>
                  <a:pt x="1341" y="350"/>
                </a:cubicBezTo>
                <a:cubicBezTo>
                  <a:pt x="1390" y="449"/>
                  <a:pt x="1363" y="372"/>
                  <a:pt x="1341" y="562"/>
                </a:cubicBezTo>
                <a:cubicBezTo>
                  <a:pt x="1336" y="609"/>
                  <a:pt x="1334" y="656"/>
                  <a:pt x="1329" y="703"/>
                </a:cubicBezTo>
                <a:cubicBezTo>
                  <a:pt x="1326" y="727"/>
                  <a:pt x="1306" y="795"/>
                  <a:pt x="1317" y="774"/>
                </a:cubicBezTo>
                <a:cubicBezTo>
                  <a:pt x="1360" y="692"/>
                  <a:pt x="1358" y="580"/>
                  <a:pt x="1388" y="491"/>
                </a:cubicBezTo>
                <a:cubicBezTo>
                  <a:pt x="1469" y="723"/>
                  <a:pt x="1416" y="750"/>
                  <a:pt x="1529" y="597"/>
                </a:cubicBezTo>
                <a:cubicBezTo>
                  <a:pt x="1537" y="586"/>
                  <a:pt x="1545" y="574"/>
                  <a:pt x="1553" y="562"/>
                </a:cubicBezTo>
                <a:cubicBezTo>
                  <a:pt x="1580" y="762"/>
                  <a:pt x="1579" y="532"/>
                  <a:pt x="1588" y="479"/>
                </a:cubicBezTo>
                <a:cubicBezTo>
                  <a:pt x="1592" y="526"/>
                  <a:pt x="1565" y="589"/>
                  <a:pt x="1600" y="621"/>
                </a:cubicBezTo>
                <a:cubicBezTo>
                  <a:pt x="1637" y="656"/>
                  <a:pt x="1703" y="618"/>
                  <a:pt x="1752" y="632"/>
                </a:cubicBezTo>
                <a:cubicBezTo>
                  <a:pt x="1803" y="646"/>
                  <a:pt x="1846" y="681"/>
                  <a:pt x="1894" y="703"/>
                </a:cubicBezTo>
                <a:cubicBezTo>
                  <a:pt x="2010" y="757"/>
                  <a:pt x="2101" y="788"/>
                  <a:pt x="2223" y="809"/>
                </a:cubicBezTo>
                <a:cubicBezTo>
                  <a:pt x="2215" y="793"/>
                  <a:pt x="2201" y="779"/>
                  <a:pt x="2199" y="762"/>
                </a:cubicBezTo>
                <a:cubicBezTo>
                  <a:pt x="2197" y="746"/>
                  <a:pt x="2217" y="730"/>
                  <a:pt x="2211" y="715"/>
                </a:cubicBezTo>
                <a:cubicBezTo>
                  <a:pt x="2110" y="486"/>
                  <a:pt x="1946" y="282"/>
                  <a:pt x="1788" y="91"/>
                </a:cubicBezTo>
                <a:cubicBezTo>
                  <a:pt x="1780" y="68"/>
                  <a:pt x="1777" y="0"/>
                  <a:pt x="1764" y="21"/>
                </a:cubicBezTo>
                <a:cubicBezTo>
                  <a:pt x="1742" y="58"/>
                  <a:pt x="1748" y="107"/>
                  <a:pt x="1752" y="150"/>
                </a:cubicBezTo>
                <a:cubicBezTo>
                  <a:pt x="1760" y="245"/>
                  <a:pt x="1784" y="338"/>
                  <a:pt x="1800" y="432"/>
                </a:cubicBezTo>
                <a:cubicBezTo>
                  <a:pt x="1805" y="463"/>
                  <a:pt x="1803" y="496"/>
                  <a:pt x="1811" y="527"/>
                </a:cubicBezTo>
                <a:cubicBezTo>
                  <a:pt x="1815" y="541"/>
                  <a:pt x="1827" y="550"/>
                  <a:pt x="1835" y="562"/>
                </a:cubicBezTo>
                <a:cubicBezTo>
                  <a:pt x="1839" y="585"/>
                  <a:pt x="1826" y="621"/>
                  <a:pt x="1847" y="632"/>
                </a:cubicBezTo>
                <a:cubicBezTo>
                  <a:pt x="1864" y="641"/>
                  <a:pt x="1855" y="594"/>
                  <a:pt x="1858" y="574"/>
                </a:cubicBezTo>
                <a:cubicBezTo>
                  <a:pt x="1867" y="503"/>
                  <a:pt x="1873" y="433"/>
                  <a:pt x="1882" y="362"/>
                </a:cubicBezTo>
                <a:cubicBezTo>
                  <a:pt x="1874" y="327"/>
                  <a:pt x="1858" y="292"/>
                  <a:pt x="1858" y="256"/>
                </a:cubicBezTo>
                <a:cubicBezTo>
                  <a:pt x="1858" y="192"/>
                  <a:pt x="1883" y="131"/>
                  <a:pt x="1894" y="68"/>
                </a:cubicBezTo>
                <a:cubicBezTo>
                  <a:pt x="1898" y="103"/>
                  <a:pt x="1886" y="144"/>
                  <a:pt x="1905" y="174"/>
                </a:cubicBezTo>
                <a:cubicBezTo>
                  <a:pt x="1913" y="188"/>
                  <a:pt x="1940" y="151"/>
                  <a:pt x="1952" y="162"/>
                </a:cubicBezTo>
                <a:cubicBezTo>
                  <a:pt x="1969" y="179"/>
                  <a:pt x="1960" y="209"/>
                  <a:pt x="1964" y="232"/>
                </a:cubicBezTo>
                <a:cubicBezTo>
                  <a:pt x="1976" y="376"/>
                  <a:pt x="1949" y="422"/>
                  <a:pt x="2047" y="327"/>
                </a:cubicBezTo>
                <a:cubicBezTo>
                  <a:pt x="2082" y="219"/>
                  <a:pt x="2143" y="135"/>
                  <a:pt x="2211" y="44"/>
                </a:cubicBezTo>
                <a:cubicBezTo>
                  <a:pt x="2174" y="157"/>
                  <a:pt x="2143" y="273"/>
                  <a:pt x="2105" y="385"/>
                </a:cubicBezTo>
                <a:cubicBezTo>
                  <a:pt x="2090" y="308"/>
                  <a:pt x="2104" y="259"/>
                  <a:pt x="2129" y="185"/>
                </a:cubicBezTo>
                <a:cubicBezTo>
                  <a:pt x="2141" y="193"/>
                  <a:pt x="2164" y="209"/>
                  <a:pt x="2164" y="209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02" name=""/>
          <p:cNvSpPr/>
          <p:nvPr/>
        </p:nvSpPr>
        <p:spPr>
          <a:xfrm>
            <a:off x="3733920" y="3276720"/>
            <a:ext cx="5410080" cy="3581280"/>
          </a:xfrm>
          <a:custGeom>
            <a:avLst/>
            <a:gdLst/>
            <a:ahLst/>
            <a:rect l="l" t="t" r="r" b="b"/>
            <a:pathLst>
              <a:path w="2894" h="2172">
                <a:moveTo>
                  <a:pt x="283" y="1613"/>
                </a:moveTo>
                <a:cubicBezTo>
                  <a:pt x="205" y="1307"/>
                  <a:pt x="280" y="1831"/>
                  <a:pt x="295" y="1942"/>
                </a:cubicBezTo>
                <a:cubicBezTo>
                  <a:pt x="299" y="1970"/>
                  <a:pt x="303" y="1997"/>
                  <a:pt x="307" y="2025"/>
                </a:cubicBezTo>
                <a:cubicBezTo>
                  <a:pt x="319" y="2001"/>
                  <a:pt x="334" y="1979"/>
                  <a:pt x="342" y="1954"/>
                </a:cubicBezTo>
                <a:cubicBezTo>
                  <a:pt x="366" y="1881"/>
                  <a:pt x="340" y="1838"/>
                  <a:pt x="412" y="1789"/>
                </a:cubicBezTo>
                <a:cubicBezTo>
                  <a:pt x="424" y="1770"/>
                  <a:pt x="435" y="1750"/>
                  <a:pt x="448" y="1731"/>
                </a:cubicBezTo>
                <a:cubicBezTo>
                  <a:pt x="459" y="1715"/>
                  <a:pt x="464" y="1680"/>
                  <a:pt x="483" y="1684"/>
                </a:cubicBezTo>
                <a:cubicBezTo>
                  <a:pt x="503" y="1688"/>
                  <a:pt x="498" y="1723"/>
                  <a:pt x="506" y="1742"/>
                </a:cubicBezTo>
                <a:cubicBezTo>
                  <a:pt x="518" y="1738"/>
                  <a:pt x="534" y="1721"/>
                  <a:pt x="542" y="1731"/>
                </a:cubicBezTo>
                <a:cubicBezTo>
                  <a:pt x="548" y="1738"/>
                  <a:pt x="561" y="1865"/>
                  <a:pt x="565" y="1872"/>
                </a:cubicBezTo>
                <a:cubicBezTo>
                  <a:pt x="574" y="1887"/>
                  <a:pt x="596" y="1887"/>
                  <a:pt x="612" y="1895"/>
                </a:cubicBezTo>
                <a:cubicBezTo>
                  <a:pt x="682" y="1826"/>
                  <a:pt x="704" y="1776"/>
                  <a:pt x="801" y="1825"/>
                </a:cubicBezTo>
                <a:cubicBezTo>
                  <a:pt x="844" y="1821"/>
                  <a:pt x="890" y="1797"/>
                  <a:pt x="930" y="1813"/>
                </a:cubicBezTo>
                <a:cubicBezTo>
                  <a:pt x="953" y="1822"/>
                  <a:pt x="948" y="1860"/>
                  <a:pt x="953" y="1884"/>
                </a:cubicBezTo>
                <a:cubicBezTo>
                  <a:pt x="978" y="2000"/>
                  <a:pt x="931" y="1961"/>
                  <a:pt x="1012" y="2001"/>
                </a:cubicBezTo>
                <a:cubicBezTo>
                  <a:pt x="1103" y="1913"/>
                  <a:pt x="994" y="1995"/>
                  <a:pt x="1083" y="2001"/>
                </a:cubicBezTo>
                <a:cubicBezTo>
                  <a:pt x="1134" y="2004"/>
                  <a:pt x="1185" y="1986"/>
                  <a:pt x="1236" y="1978"/>
                </a:cubicBezTo>
                <a:cubicBezTo>
                  <a:pt x="1259" y="1954"/>
                  <a:pt x="1277" y="1923"/>
                  <a:pt x="1306" y="1907"/>
                </a:cubicBezTo>
                <a:cubicBezTo>
                  <a:pt x="1317" y="1901"/>
                  <a:pt x="1336" y="1908"/>
                  <a:pt x="1342" y="1919"/>
                </a:cubicBezTo>
                <a:cubicBezTo>
                  <a:pt x="1354" y="1939"/>
                  <a:pt x="1349" y="1966"/>
                  <a:pt x="1353" y="1989"/>
                </a:cubicBezTo>
                <a:cubicBezTo>
                  <a:pt x="1361" y="1966"/>
                  <a:pt x="1373" y="1943"/>
                  <a:pt x="1377" y="1919"/>
                </a:cubicBezTo>
                <a:cubicBezTo>
                  <a:pt x="1386" y="1860"/>
                  <a:pt x="1376" y="1800"/>
                  <a:pt x="1389" y="1742"/>
                </a:cubicBezTo>
                <a:cubicBezTo>
                  <a:pt x="1392" y="1730"/>
                  <a:pt x="1538" y="1613"/>
                  <a:pt x="1353" y="1766"/>
                </a:cubicBezTo>
                <a:cubicBezTo>
                  <a:pt x="1330" y="1813"/>
                  <a:pt x="1310" y="1862"/>
                  <a:pt x="1283" y="1907"/>
                </a:cubicBezTo>
                <a:cubicBezTo>
                  <a:pt x="1263" y="1941"/>
                  <a:pt x="1246" y="2021"/>
                  <a:pt x="1212" y="2001"/>
                </a:cubicBezTo>
                <a:cubicBezTo>
                  <a:pt x="1171" y="1978"/>
                  <a:pt x="1205" y="1907"/>
                  <a:pt x="1201" y="1860"/>
                </a:cubicBezTo>
                <a:cubicBezTo>
                  <a:pt x="1198" y="1821"/>
                  <a:pt x="1193" y="1781"/>
                  <a:pt x="1189" y="1742"/>
                </a:cubicBezTo>
                <a:cubicBezTo>
                  <a:pt x="1177" y="1750"/>
                  <a:pt x="1164" y="1775"/>
                  <a:pt x="1153" y="1766"/>
                </a:cubicBezTo>
                <a:cubicBezTo>
                  <a:pt x="1112" y="1734"/>
                  <a:pt x="1136" y="1661"/>
                  <a:pt x="1142" y="1625"/>
                </a:cubicBezTo>
                <a:cubicBezTo>
                  <a:pt x="1156" y="1686"/>
                  <a:pt x="1139" y="1756"/>
                  <a:pt x="1165" y="1813"/>
                </a:cubicBezTo>
                <a:cubicBezTo>
                  <a:pt x="1172" y="1828"/>
                  <a:pt x="1196" y="1805"/>
                  <a:pt x="1212" y="1801"/>
                </a:cubicBezTo>
                <a:cubicBezTo>
                  <a:pt x="1288" y="1690"/>
                  <a:pt x="1150" y="1874"/>
                  <a:pt x="1259" y="1884"/>
                </a:cubicBezTo>
                <a:cubicBezTo>
                  <a:pt x="1309" y="1889"/>
                  <a:pt x="1365" y="1778"/>
                  <a:pt x="1365" y="1778"/>
                </a:cubicBezTo>
                <a:cubicBezTo>
                  <a:pt x="1369" y="1809"/>
                  <a:pt x="1346" y="1864"/>
                  <a:pt x="1377" y="1872"/>
                </a:cubicBezTo>
                <a:cubicBezTo>
                  <a:pt x="1534" y="1910"/>
                  <a:pt x="1413" y="1710"/>
                  <a:pt x="1483" y="1848"/>
                </a:cubicBezTo>
                <a:cubicBezTo>
                  <a:pt x="1507" y="1686"/>
                  <a:pt x="1502" y="1808"/>
                  <a:pt x="1518" y="1872"/>
                </a:cubicBezTo>
                <a:cubicBezTo>
                  <a:pt x="1523" y="1853"/>
                  <a:pt x="1531" y="1713"/>
                  <a:pt x="1612" y="1754"/>
                </a:cubicBezTo>
                <a:cubicBezTo>
                  <a:pt x="1634" y="1765"/>
                  <a:pt x="1628" y="1801"/>
                  <a:pt x="1636" y="1825"/>
                </a:cubicBezTo>
                <a:cubicBezTo>
                  <a:pt x="1644" y="1794"/>
                  <a:pt x="1637" y="1754"/>
                  <a:pt x="1659" y="1731"/>
                </a:cubicBezTo>
                <a:cubicBezTo>
                  <a:pt x="1673" y="1717"/>
                  <a:pt x="1666" y="1770"/>
                  <a:pt x="1671" y="1789"/>
                </a:cubicBezTo>
                <a:cubicBezTo>
                  <a:pt x="1678" y="1813"/>
                  <a:pt x="1687" y="1836"/>
                  <a:pt x="1695" y="1860"/>
                </a:cubicBezTo>
                <a:cubicBezTo>
                  <a:pt x="1980" y="1790"/>
                  <a:pt x="1554" y="1905"/>
                  <a:pt x="1906" y="1766"/>
                </a:cubicBezTo>
                <a:cubicBezTo>
                  <a:pt x="1935" y="1754"/>
                  <a:pt x="1969" y="1758"/>
                  <a:pt x="2000" y="1754"/>
                </a:cubicBezTo>
                <a:cubicBezTo>
                  <a:pt x="2026" y="2013"/>
                  <a:pt x="2011" y="1911"/>
                  <a:pt x="2036" y="2060"/>
                </a:cubicBezTo>
                <a:cubicBezTo>
                  <a:pt x="2065" y="2013"/>
                  <a:pt x="2143" y="1914"/>
                  <a:pt x="2118" y="1848"/>
                </a:cubicBezTo>
                <a:cubicBezTo>
                  <a:pt x="2104" y="1811"/>
                  <a:pt x="2055" y="1801"/>
                  <a:pt x="2024" y="1778"/>
                </a:cubicBezTo>
                <a:cubicBezTo>
                  <a:pt x="2000" y="1786"/>
                  <a:pt x="1973" y="1816"/>
                  <a:pt x="1953" y="1801"/>
                </a:cubicBezTo>
                <a:cubicBezTo>
                  <a:pt x="1927" y="1782"/>
                  <a:pt x="1939" y="1738"/>
                  <a:pt x="1930" y="1707"/>
                </a:cubicBezTo>
                <a:cubicBezTo>
                  <a:pt x="1923" y="1683"/>
                  <a:pt x="1914" y="1660"/>
                  <a:pt x="1906" y="1637"/>
                </a:cubicBezTo>
                <a:cubicBezTo>
                  <a:pt x="1960" y="1475"/>
                  <a:pt x="1905" y="1844"/>
                  <a:pt x="1895" y="1907"/>
                </a:cubicBezTo>
                <a:cubicBezTo>
                  <a:pt x="1899" y="1856"/>
                  <a:pt x="1892" y="1803"/>
                  <a:pt x="1906" y="1754"/>
                </a:cubicBezTo>
                <a:cubicBezTo>
                  <a:pt x="1920" y="1703"/>
                  <a:pt x="1957" y="1662"/>
                  <a:pt x="1977" y="1613"/>
                </a:cubicBezTo>
                <a:cubicBezTo>
                  <a:pt x="1989" y="1583"/>
                  <a:pt x="1992" y="1550"/>
                  <a:pt x="2000" y="1519"/>
                </a:cubicBezTo>
                <a:cubicBezTo>
                  <a:pt x="2004" y="1593"/>
                  <a:pt x="2000" y="1668"/>
                  <a:pt x="2012" y="1742"/>
                </a:cubicBezTo>
                <a:cubicBezTo>
                  <a:pt x="2016" y="1765"/>
                  <a:pt x="2021" y="1695"/>
                  <a:pt x="2024" y="1672"/>
                </a:cubicBezTo>
                <a:cubicBezTo>
                  <a:pt x="2029" y="1633"/>
                  <a:pt x="2032" y="1593"/>
                  <a:pt x="2036" y="1554"/>
                </a:cubicBezTo>
                <a:cubicBezTo>
                  <a:pt x="2043" y="1491"/>
                  <a:pt x="2059" y="1366"/>
                  <a:pt x="2059" y="1366"/>
                </a:cubicBezTo>
                <a:cubicBezTo>
                  <a:pt x="2063" y="1382"/>
                  <a:pt x="2068" y="1397"/>
                  <a:pt x="2071" y="1413"/>
                </a:cubicBezTo>
                <a:cubicBezTo>
                  <a:pt x="2077" y="1448"/>
                  <a:pt x="2049" y="1528"/>
                  <a:pt x="2083" y="1519"/>
                </a:cubicBezTo>
                <a:cubicBezTo>
                  <a:pt x="2123" y="1509"/>
                  <a:pt x="2106" y="1440"/>
                  <a:pt x="2118" y="1401"/>
                </a:cubicBezTo>
                <a:cubicBezTo>
                  <a:pt x="2125" y="1377"/>
                  <a:pt x="2134" y="1354"/>
                  <a:pt x="2142" y="1331"/>
                </a:cubicBezTo>
                <a:cubicBezTo>
                  <a:pt x="2150" y="1405"/>
                  <a:pt x="2134" y="1486"/>
                  <a:pt x="2165" y="1554"/>
                </a:cubicBezTo>
                <a:cubicBezTo>
                  <a:pt x="2181" y="1591"/>
                  <a:pt x="2171" y="1472"/>
                  <a:pt x="2189" y="1436"/>
                </a:cubicBezTo>
                <a:cubicBezTo>
                  <a:pt x="2196" y="1421"/>
                  <a:pt x="2196" y="1468"/>
                  <a:pt x="2200" y="1484"/>
                </a:cubicBezTo>
                <a:cubicBezTo>
                  <a:pt x="2192" y="1523"/>
                  <a:pt x="2155" y="1568"/>
                  <a:pt x="2177" y="1601"/>
                </a:cubicBezTo>
                <a:cubicBezTo>
                  <a:pt x="2193" y="1624"/>
                  <a:pt x="2229" y="1575"/>
                  <a:pt x="2247" y="1554"/>
                </a:cubicBezTo>
                <a:cubicBezTo>
                  <a:pt x="2277" y="1519"/>
                  <a:pt x="2294" y="1475"/>
                  <a:pt x="2318" y="1436"/>
                </a:cubicBezTo>
                <a:cubicBezTo>
                  <a:pt x="2314" y="1464"/>
                  <a:pt x="2314" y="1492"/>
                  <a:pt x="2306" y="1519"/>
                </a:cubicBezTo>
                <a:cubicBezTo>
                  <a:pt x="2302" y="1532"/>
                  <a:pt x="2283" y="1568"/>
                  <a:pt x="2283" y="1554"/>
                </a:cubicBezTo>
                <a:cubicBezTo>
                  <a:pt x="2283" y="1498"/>
                  <a:pt x="2309" y="1444"/>
                  <a:pt x="2318" y="1389"/>
                </a:cubicBezTo>
                <a:cubicBezTo>
                  <a:pt x="2322" y="1424"/>
                  <a:pt x="2298" y="1479"/>
                  <a:pt x="2330" y="1495"/>
                </a:cubicBezTo>
                <a:cubicBezTo>
                  <a:pt x="2358" y="1509"/>
                  <a:pt x="2336" y="1370"/>
                  <a:pt x="2342" y="1401"/>
                </a:cubicBezTo>
                <a:cubicBezTo>
                  <a:pt x="2355" y="1475"/>
                  <a:pt x="2349" y="1550"/>
                  <a:pt x="2353" y="1625"/>
                </a:cubicBezTo>
                <a:cubicBezTo>
                  <a:pt x="2380" y="1466"/>
                  <a:pt x="2349" y="1608"/>
                  <a:pt x="2377" y="1660"/>
                </a:cubicBezTo>
                <a:cubicBezTo>
                  <a:pt x="2390" y="1685"/>
                  <a:pt x="2424" y="1691"/>
                  <a:pt x="2447" y="1707"/>
                </a:cubicBezTo>
                <a:cubicBezTo>
                  <a:pt x="2637" y="1517"/>
                  <a:pt x="2760" y="1392"/>
                  <a:pt x="2894" y="1166"/>
                </a:cubicBezTo>
                <a:cubicBezTo>
                  <a:pt x="2882" y="1280"/>
                  <a:pt x="2890" y="1260"/>
                  <a:pt x="2859" y="1366"/>
                </a:cubicBezTo>
                <a:cubicBezTo>
                  <a:pt x="2852" y="1390"/>
                  <a:pt x="2836" y="1411"/>
                  <a:pt x="2836" y="1436"/>
                </a:cubicBezTo>
                <a:cubicBezTo>
                  <a:pt x="2836" y="1457"/>
                  <a:pt x="2851" y="1397"/>
                  <a:pt x="2859" y="1378"/>
                </a:cubicBezTo>
                <a:cubicBezTo>
                  <a:pt x="2882" y="1468"/>
                  <a:pt x="2842" y="1564"/>
                  <a:pt x="2789" y="1637"/>
                </a:cubicBezTo>
                <a:cubicBezTo>
                  <a:pt x="2765" y="1617"/>
                  <a:pt x="2724" y="1608"/>
                  <a:pt x="2718" y="1578"/>
                </a:cubicBezTo>
                <a:cubicBezTo>
                  <a:pt x="2706" y="1524"/>
                  <a:pt x="2774" y="1458"/>
                  <a:pt x="2741" y="1413"/>
                </a:cubicBezTo>
                <a:cubicBezTo>
                  <a:pt x="2715" y="1378"/>
                  <a:pt x="2706" y="1494"/>
                  <a:pt x="2683" y="1531"/>
                </a:cubicBezTo>
                <a:cubicBezTo>
                  <a:pt x="2663" y="1565"/>
                  <a:pt x="2636" y="1594"/>
                  <a:pt x="2612" y="1625"/>
                </a:cubicBezTo>
                <a:cubicBezTo>
                  <a:pt x="2608" y="1648"/>
                  <a:pt x="2598" y="1719"/>
                  <a:pt x="2600" y="1695"/>
                </a:cubicBezTo>
                <a:cubicBezTo>
                  <a:pt x="2606" y="1632"/>
                  <a:pt x="2608" y="1568"/>
                  <a:pt x="2624" y="1507"/>
                </a:cubicBezTo>
                <a:cubicBezTo>
                  <a:pt x="2628" y="1491"/>
                  <a:pt x="2632" y="1538"/>
                  <a:pt x="2636" y="1554"/>
                </a:cubicBezTo>
                <a:cubicBezTo>
                  <a:pt x="2488" y="1800"/>
                  <a:pt x="2406" y="1816"/>
                  <a:pt x="2530" y="1778"/>
                </a:cubicBezTo>
                <a:cubicBezTo>
                  <a:pt x="2597" y="1576"/>
                  <a:pt x="2557" y="1609"/>
                  <a:pt x="2600" y="1719"/>
                </a:cubicBezTo>
                <a:cubicBezTo>
                  <a:pt x="2609" y="1743"/>
                  <a:pt x="2624" y="1766"/>
                  <a:pt x="2636" y="1789"/>
                </a:cubicBezTo>
                <a:cubicBezTo>
                  <a:pt x="2666" y="2015"/>
                  <a:pt x="2603" y="1750"/>
                  <a:pt x="2741" y="1848"/>
                </a:cubicBezTo>
                <a:cubicBezTo>
                  <a:pt x="2764" y="1864"/>
                  <a:pt x="2730" y="1959"/>
                  <a:pt x="2730" y="1931"/>
                </a:cubicBezTo>
                <a:cubicBezTo>
                  <a:pt x="2730" y="1856"/>
                  <a:pt x="2745" y="1802"/>
                  <a:pt x="2765" y="1731"/>
                </a:cubicBezTo>
                <a:cubicBezTo>
                  <a:pt x="2768" y="1719"/>
                  <a:pt x="2790" y="1695"/>
                  <a:pt x="2777" y="1695"/>
                </a:cubicBezTo>
                <a:cubicBezTo>
                  <a:pt x="2750" y="1695"/>
                  <a:pt x="2730" y="1719"/>
                  <a:pt x="2706" y="1731"/>
                </a:cubicBezTo>
                <a:cubicBezTo>
                  <a:pt x="2648" y="1906"/>
                  <a:pt x="2635" y="1785"/>
                  <a:pt x="2577" y="1648"/>
                </a:cubicBezTo>
                <a:cubicBezTo>
                  <a:pt x="2331" y="1796"/>
                  <a:pt x="2429" y="1760"/>
                  <a:pt x="2306" y="1801"/>
                </a:cubicBezTo>
                <a:cubicBezTo>
                  <a:pt x="2327" y="1572"/>
                  <a:pt x="2353" y="1410"/>
                  <a:pt x="2471" y="1213"/>
                </a:cubicBezTo>
                <a:cubicBezTo>
                  <a:pt x="2495" y="1359"/>
                  <a:pt x="2506" y="1505"/>
                  <a:pt x="2542" y="1648"/>
                </a:cubicBezTo>
                <a:cubicBezTo>
                  <a:pt x="2534" y="1672"/>
                  <a:pt x="2520" y="1744"/>
                  <a:pt x="2518" y="1719"/>
                </a:cubicBezTo>
                <a:cubicBezTo>
                  <a:pt x="2512" y="1653"/>
                  <a:pt x="2515" y="1584"/>
                  <a:pt x="2530" y="1519"/>
                </a:cubicBezTo>
                <a:cubicBezTo>
                  <a:pt x="2543" y="1461"/>
                  <a:pt x="2577" y="1409"/>
                  <a:pt x="2600" y="1354"/>
                </a:cubicBezTo>
                <a:cubicBezTo>
                  <a:pt x="2604" y="1303"/>
                  <a:pt x="2604" y="1252"/>
                  <a:pt x="2612" y="1201"/>
                </a:cubicBezTo>
                <a:cubicBezTo>
                  <a:pt x="2616" y="1177"/>
                  <a:pt x="2613" y="1139"/>
                  <a:pt x="2636" y="1131"/>
                </a:cubicBezTo>
                <a:cubicBezTo>
                  <a:pt x="2655" y="1125"/>
                  <a:pt x="2643" y="1170"/>
                  <a:pt x="2647" y="1189"/>
                </a:cubicBezTo>
                <a:cubicBezTo>
                  <a:pt x="2651" y="1236"/>
                  <a:pt x="2670" y="1285"/>
                  <a:pt x="2659" y="1331"/>
                </a:cubicBezTo>
                <a:cubicBezTo>
                  <a:pt x="2650" y="1369"/>
                  <a:pt x="2627" y="1433"/>
                  <a:pt x="2589" y="1425"/>
                </a:cubicBezTo>
                <a:cubicBezTo>
                  <a:pt x="2554" y="1418"/>
                  <a:pt x="2585" y="1351"/>
                  <a:pt x="2600" y="1319"/>
                </a:cubicBezTo>
                <a:cubicBezTo>
                  <a:pt x="2629" y="1258"/>
                  <a:pt x="2679" y="1209"/>
                  <a:pt x="2718" y="1154"/>
                </a:cubicBezTo>
                <a:cubicBezTo>
                  <a:pt x="2726" y="1107"/>
                  <a:pt x="2731" y="1059"/>
                  <a:pt x="2741" y="1013"/>
                </a:cubicBezTo>
                <a:cubicBezTo>
                  <a:pt x="2746" y="989"/>
                  <a:pt x="2786" y="928"/>
                  <a:pt x="2765" y="942"/>
                </a:cubicBezTo>
                <a:cubicBezTo>
                  <a:pt x="2653" y="1017"/>
                  <a:pt x="2619" y="1170"/>
                  <a:pt x="2530" y="1272"/>
                </a:cubicBezTo>
                <a:cubicBezTo>
                  <a:pt x="2446" y="1368"/>
                  <a:pt x="2337" y="1441"/>
                  <a:pt x="2247" y="1531"/>
                </a:cubicBezTo>
                <a:cubicBezTo>
                  <a:pt x="2255" y="1492"/>
                  <a:pt x="2255" y="1450"/>
                  <a:pt x="2271" y="1413"/>
                </a:cubicBezTo>
                <a:cubicBezTo>
                  <a:pt x="2319" y="1300"/>
                  <a:pt x="2523" y="998"/>
                  <a:pt x="2436" y="1084"/>
                </a:cubicBezTo>
                <a:cubicBezTo>
                  <a:pt x="2228" y="1291"/>
                  <a:pt x="2050" y="1527"/>
                  <a:pt x="1918" y="1789"/>
                </a:cubicBezTo>
                <a:cubicBezTo>
                  <a:pt x="1968" y="1448"/>
                  <a:pt x="2156" y="1339"/>
                  <a:pt x="2342" y="1060"/>
                </a:cubicBezTo>
                <a:cubicBezTo>
                  <a:pt x="2397" y="978"/>
                  <a:pt x="2431" y="884"/>
                  <a:pt x="2483" y="801"/>
                </a:cubicBezTo>
                <a:cubicBezTo>
                  <a:pt x="2510" y="758"/>
                  <a:pt x="2594" y="636"/>
                  <a:pt x="2577" y="683"/>
                </a:cubicBezTo>
                <a:cubicBezTo>
                  <a:pt x="2514" y="862"/>
                  <a:pt x="2342" y="1201"/>
                  <a:pt x="2342" y="1201"/>
                </a:cubicBezTo>
                <a:cubicBezTo>
                  <a:pt x="2334" y="1248"/>
                  <a:pt x="2328" y="1295"/>
                  <a:pt x="2318" y="1342"/>
                </a:cubicBezTo>
                <a:cubicBezTo>
                  <a:pt x="2312" y="1369"/>
                  <a:pt x="2320" y="1286"/>
                  <a:pt x="2330" y="1260"/>
                </a:cubicBezTo>
                <a:cubicBezTo>
                  <a:pt x="2356" y="1195"/>
                  <a:pt x="2390" y="1134"/>
                  <a:pt x="2424" y="1072"/>
                </a:cubicBezTo>
                <a:cubicBezTo>
                  <a:pt x="2485" y="961"/>
                  <a:pt x="2549" y="852"/>
                  <a:pt x="2612" y="742"/>
                </a:cubicBezTo>
                <a:cubicBezTo>
                  <a:pt x="2661" y="656"/>
                  <a:pt x="2556" y="933"/>
                  <a:pt x="2518" y="1025"/>
                </a:cubicBezTo>
                <a:cubicBezTo>
                  <a:pt x="2431" y="1238"/>
                  <a:pt x="2424" y="1230"/>
                  <a:pt x="2306" y="1378"/>
                </a:cubicBezTo>
                <a:cubicBezTo>
                  <a:pt x="2289" y="1138"/>
                  <a:pt x="2288" y="1273"/>
                  <a:pt x="2318" y="1001"/>
                </a:cubicBezTo>
                <a:cubicBezTo>
                  <a:pt x="2322" y="962"/>
                  <a:pt x="2363" y="862"/>
                  <a:pt x="2330" y="884"/>
                </a:cubicBezTo>
                <a:cubicBezTo>
                  <a:pt x="2277" y="919"/>
                  <a:pt x="2113" y="1274"/>
                  <a:pt x="2095" y="1307"/>
                </a:cubicBezTo>
                <a:cubicBezTo>
                  <a:pt x="2035" y="1418"/>
                  <a:pt x="1906" y="1637"/>
                  <a:pt x="1906" y="1637"/>
                </a:cubicBezTo>
                <a:cubicBezTo>
                  <a:pt x="1919" y="1347"/>
                  <a:pt x="1919" y="1044"/>
                  <a:pt x="1953" y="754"/>
                </a:cubicBezTo>
                <a:cubicBezTo>
                  <a:pt x="1945" y="887"/>
                  <a:pt x="1938" y="1021"/>
                  <a:pt x="1930" y="1154"/>
                </a:cubicBezTo>
                <a:cubicBezTo>
                  <a:pt x="1927" y="1209"/>
                  <a:pt x="1957" y="1280"/>
                  <a:pt x="1918" y="1319"/>
                </a:cubicBezTo>
                <a:cubicBezTo>
                  <a:pt x="1885" y="1352"/>
                  <a:pt x="1910" y="1225"/>
                  <a:pt x="1906" y="1178"/>
                </a:cubicBezTo>
                <a:cubicBezTo>
                  <a:pt x="1910" y="1068"/>
                  <a:pt x="1932" y="957"/>
                  <a:pt x="1918" y="848"/>
                </a:cubicBezTo>
                <a:cubicBezTo>
                  <a:pt x="1907" y="766"/>
                  <a:pt x="1912" y="1014"/>
                  <a:pt x="1895" y="1095"/>
                </a:cubicBezTo>
                <a:cubicBezTo>
                  <a:pt x="1881" y="1161"/>
                  <a:pt x="1848" y="1221"/>
                  <a:pt x="1824" y="1284"/>
                </a:cubicBezTo>
                <a:cubicBezTo>
                  <a:pt x="1792" y="1595"/>
                  <a:pt x="1848" y="1215"/>
                  <a:pt x="1742" y="1201"/>
                </a:cubicBezTo>
                <a:cubicBezTo>
                  <a:pt x="1679" y="1193"/>
                  <a:pt x="1728" y="1327"/>
                  <a:pt x="1718" y="1389"/>
                </a:cubicBezTo>
                <a:cubicBezTo>
                  <a:pt x="1713" y="1421"/>
                  <a:pt x="1703" y="1452"/>
                  <a:pt x="1695" y="1484"/>
                </a:cubicBezTo>
                <a:cubicBezTo>
                  <a:pt x="1687" y="1445"/>
                  <a:pt x="1676" y="1406"/>
                  <a:pt x="1671" y="1366"/>
                </a:cubicBezTo>
                <a:cubicBezTo>
                  <a:pt x="1660" y="1272"/>
                  <a:pt x="1665" y="1177"/>
                  <a:pt x="1648" y="1084"/>
                </a:cubicBezTo>
                <a:cubicBezTo>
                  <a:pt x="1595" y="799"/>
                  <a:pt x="1459" y="236"/>
                  <a:pt x="1459" y="236"/>
                </a:cubicBezTo>
                <a:cubicBezTo>
                  <a:pt x="1451" y="166"/>
                  <a:pt x="1506" y="35"/>
                  <a:pt x="1436" y="25"/>
                </a:cubicBezTo>
                <a:cubicBezTo>
                  <a:pt x="1261" y="0"/>
                  <a:pt x="1286" y="410"/>
                  <a:pt x="1283" y="448"/>
                </a:cubicBezTo>
                <a:cubicBezTo>
                  <a:pt x="1281" y="480"/>
                  <a:pt x="1261" y="512"/>
                  <a:pt x="1271" y="542"/>
                </a:cubicBezTo>
                <a:cubicBezTo>
                  <a:pt x="1275" y="555"/>
                  <a:pt x="1294" y="527"/>
                  <a:pt x="1306" y="519"/>
                </a:cubicBezTo>
                <a:cubicBezTo>
                  <a:pt x="1293" y="629"/>
                  <a:pt x="1267" y="738"/>
                  <a:pt x="1259" y="848"/>
                </a:cubicBezTo>
                <a:cubicBezTo>
                  <a:pt x="1229" y="1247"/>
                  <a:pt x="1292" y="1052"/>
                  <a:pt x="1212" y="1260"/>
                </a:cubicBezTo>
                <a:cubicBezTo>
                  <a:pt x="1187" y="1043"/>
                  <a:pt x="1222" y="818"/>
                  <a:pt x="1236" y="601"/>
                </a:cubicBezTo>
                <a:cubicBezTo>
                  <a:pt x="1241" y="530"/>
                  <a:pt x="1318" y="396"/>
                  <a:pt x="1248" y="389"/>
                </a:cubicBezTo>
                <a:cubicBezTo>
                  <a:pt x="1148" y="379"/>
                  <a:pt x="1088" y="512"/>
                  <a:pt x="1012" y="578"/>
                </a:cubicBezTo>
                <a:cubicBezTo>
                  <a:pt x="816" y="750"/>
                  <a:pt x="951" y="699"/>
                  <a:pt x="777" y="742"/>
                </a:cubicBezTo>
                <a:cubicBezTo>
                  <a:pt x="773" y="719"/>
                  <a:pt x="785" y="685"/>
                  <a:pt x="765" y="672"/>
                </a:cubicBezTo>
                <a:cubicBezTo>
                  <a:pt x="750" y="662"/>
                  <a:pt x="746" y="702"/>
                  <a:pt x="742" y="719"/>
                </a:cubicBezTo>
                <a:cubicBezTo>
                  <a:pt x="722" y="812"/>
                  <a:pt x="695" y="1001"/>
                  <a:pt x="695" y="1001"/>
                </a:cubicBezTo>
                <a:cubicBezTo>
                  <a:pt x="691" y="966"/>
                  <a:pt x="683" y="931"/>
                  <a:pt x="683" y="895"/>
                </a:cubicBezTo>
                <a:cubicBezTo>
                  <a:pt x="683" y="816"/>
                  <a:pt x="717" y="747"/>
                  <a:pt x="671" y="860"/>
                </a:cubicBezTo>
                <a:cubicBezTo>
                  <a:pt x="663" y="899"/>
                  <a:pt x="681" y="1001"/>
                  <a:pt x="648" y="978"/>
                </a:cubicBezTo>
                <a:cubicBezTo>
                  <a:pt x="609" y="951"/>
                  <a:pt x="638" y="883"/>
                  <a:pt x="636" y="836"/>
                </a:cubicBezTo>
                <a:cubicBezTo>
                  <a:pt x="630" y="699"/>
                  <a:pt x="628" y="562"/>
                  <a:pt x="624" y="425"/>
                </a:cubicBezTo>
                <a:cubicBezTo>
                  <a:pt x="519" y="530"/>
                  <a:pt x="479" y="669"/>
                  <a:pt x="412" y="801"/>
                </a:cubicBezTo>
                <a:cubicBezTo>
                  <a:pt x="376" y="605"/>
                  <a:pt x="441" y="425"/>
                  <a:pt x="318" y="789"/>
                </a:cubicBezTo>
                <a:cubicBezTo>
                  <a:pt x="310" y="860"/>
                  <a:pt x="303" y="930"/>
                  <a:pt x="295" y="1001"/>
                </a:cubicBezTo>
                <a:cubicBezTo>
                  <a:pt x="291" y="1032"/>
                  <a:pt x="283" y="1127"/>
                  <a:pt x="283" y="1095"/>
                </a:cubicBezTo>
                <a:cubicBezTo>
                  <a:pt x="283" y="996"/>
                  <a:pt x="310" y="719"/>
                  <a:pt x="283" y="1013"/>
                </a:cubicBezTo>
                <a:cubicBezTo>
                  <a:pt x="287" y="927"/>
                  <a:pt x="318" y="837"/>
                  <a:pt x="295" y="754"/>
                </a:cubicBezTo>
                <a:cubicBezTo>
                  <a:pt x="287" y="727"/>
                  <a:pt x="238" y="777"/>
                  <a:pt x="224" y="801"/>
                </a:cubicBezTo>
                <a:cubicBezTo>
                  <a:pt x="181" y="874"/>
                  <a:pt x="161" y="958"/>
                  <a:pt x="130" y="1036"/>
                </a:cubicBezTo>
                <a:cubicBezTo>
                  <a:pt x="97" y="1205"/>
                  <a:pt x="114" y="1180"/>
                  <a:pt x="95" y="1048"/>
                </a:cubicBezTo>
                <a:cubicBezTo>
                  <a:pt x="88" y="1001"/>
                  <a:pt x="79" y="954"/>
                  <a:pt x="71" y="907"/>
                </a:cubicBezTo>
                <a:cubicBezTo>
                  <a:pt x="50" y="1073"/>
                  <a:pt x="0" y="1763"/>
                  <a:pt x="107" y="1448"/>
                </a:cubicBezTo>
                <a:cubicBezTo>
                  <a:pt x="115" y="1464"/>
                  <a:pt x="118" y="1483"/>
                  <a:pt x="130" y="1495"/>
                </a:cubicBezTo>
                <a:cubicBezTo>
                  <a:pt x="226" y="1591"/>
                  <a:pt x="213" y="1527"/>
                  <a:pt x="295" y="1425"/>
                </a:cubicBezTo>
                <a:cubicBezTo>
                  <a:pt x="303" y="1460"/>
                  <a:pt x="311" y="1495"/>
                  <a:pt x="318" y="1531"/>
                </a:cubicBezTo>
                <a:cubicBezTo>
                  <a:pt x="327" y="1578"/>
                  <a:pt x="299" y="1651"/>
                  <a:pt x="342" y="1672"/>
                </a:cubicBezTo>
                <a:cubicBezTo>
                  <a:pt x="378" y="1690"/>
                  <a:pt x="356" y="1593"/>
                  <a:pt x="365" y="1554"/>
                </a:cubicBezTo>
                <a:cubicBezTo>
                  <a:pt x="372" y="1522"/>
                  <a:pt x="389" y="1428"/>
                  <a:pt x="389" y="1460"/>
                </a:cubicBezTo>
                <a:cubicBezTo>
                  <a:pt x="389" y="1520"/>
                  <a:pt x="372" y="1578"/>
                  <a:pt x="365" y="1637"/>
                </a:cubicBezTo>
                <a:cubicBezTo>
                  <a:pt x="360" y="1676"/>
                  <a:pt x="344" y="1792"/>
                  <a:pt x="354" y="1754"/>
                </a:cubicBezTo>
                <a:cubicBezTo>
                  <a:pt x="367" y="1700"/>
                  <a:pt x="369" y="1644"/>
                  <a:pt x="377" y="1589"/>
                </a:cubicBezTo>
                <a:cubicBezTo>
                  <a:pt x="385" y="1613"/>
                  <a:pt x="378" y="1669"/>
                  <a:pt x="401" y="1660"/>
                </a:cubicBezTo>
                <a:cubicBezTo>
                  <a:pt x="448" y="1641"/>
                  <a:pt x="462" y="1580"/>
                  <a:pt x="495" y="1542"/>
                </a:cubicBezTo>
                <a:cubicBezTo>
                  <a:pt x="517" y="1517"/>
                  <a:pt x="542" y="1495"/>
                  <a:pt x="565" y="1472"/>
                </a:cubicBezTo>
                <a:cubicBezTo>
                  <a:pt x="569" y="1527"/>
                  <a:pt x="574" y="1582"/>
                  <a:pt x="577" y="1637"/>
                </a:cubicBezTo>
                <a:cubicBezTo>
                  <a:pt x="606" y="2162"/>
                  <a:pt x="441" y="2172"/>
                  <a:pt x="695" y="2107"/>
                </a:cubicBezTo>
                <a:cubicBezTo>
                  <a:pt x="777" y="1983"/>
                  <a:pt x="846" y="1876"/>
                  <a:pt x="883" y="1731"/>
                </a:cubicBezTo>
                <a:cubicBezTo>
                  <a:pt x="875" y="1809"/>
                  <a:pt x="794" y="1922"/>
                  <a:pt x="859" y="1966"/>
                </a:cubicBezTo>
                <a:cubicBezTo>
                  <a:pt x="917" y="2005"/>
                  <a:pt x="918" y="1839"/>
                  <a:pt x="953" y="1778"/>
                </a:cubicBezTo>
                <a:cubicBezTo>
                  <a:pt x="981" y="1729"/>
                  <a:pt x="1016" y="1684"/>
                  <a:pt x="1048" y="1637"/>
                </a:cubicBezTo>
                <a:cubicBezTo>
                  <a:pt x="1056" y="1676"/>
                  <a:pt x="1064" y="1715"/>
                  <a:pt x="1071" y="1754"/>
                </a:cubicBezTo>
                <a:cubicBezTo>
                  <a:pt x="1076" y="1782"/>
                  <a:pt x="1060" y="1821"/>
                  <a:pt x="1083" y="1837"/>
                </a:cubicBezTo>
                <a:cubicBezTo>
                  <a:pt x="1103" y="1851"/>
                  <a:pt x="1130" y="1821"/>
                  <a:pt x="1153" y="1813"/>
                </a:cubicBezTo>
                <a:cubicBezTo>
                  <a:pt x="1185" y="1789"/>
                  <a:pt x="1223" y="1772"/>
                  <a:pt x="1248" y="1742"/>
                </a:cubicBezTo>
                <a:cubicBezTo>
                  <a:pt x="1264" y="1723"/>
                  <a:pt x="1260" y="1650"/>
                  <a:pt x="1271" y="1672"/>
                </a:cubicBezTo>
                <a:cubicBezTo>
                  <a:pt x="1306" y="1743"/>
                  <a:pt x="1285" y="1829"/>
                  <a:pt x="1295" y="1907"/>
                </a:cubicBezTo>
                <a:cubicBezTo>
                  <a:pt x="1426" y="1819"/>
                  <a:pt x="1417" y="1836"/>
                  <a:pt x="1542" y="1695"/>
                </a:cubicBezTo>
                <a:cubicBezTo>
                  <a:pt x="1623" y="1604"/>
                  <a:pt x="1777" y="1413"/>
                  <a:pt x="1777" y="1413"/>
                </a:cubicBezTo>
                <a:cubicBezTo>
                  <a:pt x="1789" y="1421"/>
                  <a:pt x="1799" y="1441"/>
                  <a:pt x="1812" y="1436"/>
                </a:cubicBezTo>
                <a:cubicBezTo>
                  <a:pt x="1830" y="1430"/>
                  <a:pt x="1846" y="1370"/>
                  <a:pt x="1847" y="1389"/>
                </a:cubicBezTo>
                <a:cubicBezTo>
                  <a:pt x="1860" y="1596"/>
                  <a:pt x="1832" y="1609"/>
                  <a:pt x="1753" y="1766"/>
                </a:cubicBezTo>
                <a:cubicBezTo>
                  <a:pt x="1749" y="1790"/>
                  <a:pt x="1736" y="1860"/>
                  <a:pt x="1742" y="1837"/>
                </a:cubicBezTo>
                <a:cubicBezTo>
                  <a:pt x="1752" y="1798"/>
                  <a:pt x="1748" y="1755"/>
                  <a:pt x="1765" y="1719"/>
                </a:cubicBezTo>
                <a:cubicBezTo>
                  <a:pt x="1854" y="1525"/>
                  <a:pt x="2016" y="1373"/>
                  <a:pt x="2165" y="1225"/>
                </a:cubicBezTo>
                <a:cubicBezTo>
                  <a:pt x="2173" y="1245"/>
                  <a:pt x="2183" y="1264"/>
                  <a:pt x="2189" y="1284"/>
                </a:cubicBezTo>
                <a:cubicBezTo>
                  <a:pt x="2195" y="1307"/>
                  <a:pt x="2180" y="1342"/>
                  <a:pt x="2200" y="1354"/>
                </a:cubicBezTo>
                <a:cubicBezTo>
                  <a:pt x="2222" y="1366"/>
                  <a:pt x="2247" y="1339"/>
                  <a:pt x="2271" y="1331"/>
                </a:cubicBezTo>
                <a:cubicBezTo>
                  <a:pt x="2295" y="1292"/>
                  <a:pt x="2317" y="1251"/>
                  <a:pt x="2342" y="1213"/>
                </a:cubicBezTo>
                <a:cubicBezTo>
                  <a:pt x="2364" y="1180"/>
                  <a:pt x="2373" y="1113"/>
                  <a:pt x="2412" y="1119"/>
                </a:cubicBezTo>
                <a:cubicBezTo>
                  <a:pt x="2447" y="1124"/>
                  <a:pt x="2407" y="1194"/>
                  <a:pt x="2424" y="1225"/>
                </a:cubicBezTo>
                <a:cubicBezTo>
                  <a:pt x="2444" y="1261"/>
                  <a:pt x="2487" y="1280"/>
                  <a:pt x="2518" y="1307"/>
                </a:cubicBezTo>
                <a:cubicBezTo>
                  <a:pt x="2589" y="1221"/>
                  <a:pt x="2749" y="938"/>
                  <a:pt x="2730" y="1048"/>
                </a:cubicBezTo>
                <a:cubicBezTo>
                  <a:pt x="2726" y="1072"/>
                  <a:pt x="2718" y="1119"/>
                  <a:pt x="2718" y="1119"/>
                </a:cubicBezTo>
                <a:cubicBezTo>
                  <a:pt x="2702" y="1088"/>
                  <a:pt x="2690" y="995"/>
                  <a:pt x="2671" y="1025"/>
                </a:cubicBezTo>
                <a:cubicBezTo>
                  <a:pt x="2616" y="1111"/>
                  <a:pt x="2506" y="1284"/>
                  <a:pt x="2506" y="1284"/>
                </a:cubicBezTo>
                <a:cubicBezTo>
                  <a:pt x="2491" y="1329"/>
                  <a:pt x="2463" y="1449"/>
                  <a:pt x="2471" y="1260"/>
                </a:cubicBezTo>
                <a:cubicBezTo>
                  <a:pt x="2478" y="1106"/>
                  <a:pt x="2519" y="1013"/>
                  <a:pt x="2565" y="860"/>
                </a:cubicBezTo>
                <a:cubicBezTo>
                  <a:pt x="2581" y="687"/>
                  <a:pt x="2596" y="515"/>
                  <a:pt x="2612" y="342"/>
                </a:cubicBezTo>
                <a:cubicBezTo>
                  <a:pt x="2624" y="207"/>
                  <a:pt x="2638" y="184"/>
                  <a:pt x="2600" y="295"/>
                </a:cubicBezTo>
                <a:cubicBezTo>
                  <a:pt x="2581" y="418"/>
                  <a:pt x="2570" y="344"/>
                  <a:pt x="2647" y="354"/>
                </a:cubicBezTo>
                <a:cubicBezTo>
                  <a:pt x="2661" y="356"/>
                  <a:pt x="2671" y="370"/>
                  <a:pt x="2683" y="378"/>
                </a:cubicBezTo>
                <a:cubicBezTo>
                  <a:pt x="2687" y="441"/>
                  <a:pt x="2688" y="504"/>
                  <a:pt x="2694" y="566"/>
                </a:cubicBezTo>
                <a:cubicBezTo>
                  <a:pt x="2695" y="578"/>
                  <a:pt x="2700" y="612"/>
                  <a:pt x="2706" y="601"/>
                </a:cubicBezTo>
                <a:cubicBezTo>
                  <a:pt x="2723" y="573"/>
                  <a:pt x="2722" y="538"/>
                  <a:pt x="2730" y="507"/>
                </a:cubicBezTo>
                <a:cubicBezTo>
                  <a:pt x="2726" y="550"/>
                  <a:pt x="2723" y="593"/>
                  <a:pt x="2718" y="636"/>
                </a:cubicBezTo>
                <a:cubicBezTo>
                  <a:pt x="2715" y="660"/>
                  <a:pt x="2689" y="690"/>
                  <a:pt x="2706" y="707"/>
                </a:cubicBezTo>
                <a:cubicBezTo>
                  <a:pt x="2721" y="722"/>
                  <a:pt x="2717" y="665"/>
                  <a:pt x="2730" y="648"/>
                </a:cubicBezTo>
                <a:cubicBezTo>
                  <a:pt x="2749" y="621"/>
                  <a:pt x="2777" y="601"/>
                  <a:pt x="2800" y="578"/>
                </a:cubicBezTo>
                <a:cubicBezTo>
                  <a:pt x="2816" y="754"/>
                  <a:pt x="2816" y="674"/>
                  <a:pt x="2800" y="872"/>
                </a:cubicBezTo>
                <a:cubicBezTo>
                  <a:pt x="2800" y="876"/>
                  <a:pt x="2786" y="1049"/>
                  <a:pt x="2777" y="1060"/>
                </a:cubicBezTo>
                <a:cubicBezTo>
                  <a:pt x="2742" y="1104"/>
                  <a:pt x="2647" y="1119"/>
                  <a:pt x="2600" y="1131"/>
                </a:cubicBezTo>
                <a:cubicBezTo>
                  <a:pt x="2547" y="864"/>
                  <a:pt x="2562" y="815"/>
                  <a:pt x="2542" y="989"/>
                </a:cubicBezTo>
                <a:cubicBezTo>
                  <a:pt x="2539" y="963"/>
                  <a:pt x="2539" y="811"/>
                  <a:pt x="2459" y="825"/>
                </a:cubicBezTo>
                <a:cubicBezTo>
                  <a:pt x="2420" y="832"/>
                  <a:pt x="2412" y="888"/>
                  <a:pt x="2389" y="919"/>
                </a:cubicBezTo>
                <a:cubicBezTo>
                  <a:pt x="2381" y="884"/>
                  <a:pt x="2365" y="849"/>
                  <a:pt x="2365" y="813"/>
                </a:cubicBezTo>
                <a:cubicBezTo>
                  <a:pt x="2365" y="419"/>
                  <a:pt x="2513" y="441"/>
                  <a:pt x="2177" y="554"/>
                </a:cubicBezTo>
                <a:cubicBezTo>
                  <a:pt x="2153" y="578"/>
                  <a:pt x="2125" y="652"/>
                  <a:pt x="2106" y="625"/>
                </a:cubicBezTo>
                <a:cubicBezTo>
                  <a:pt x="2070" y="573"/>
                  <a:pt x="2100" y="499"/>
                  <a:pt x="2095" y="436"/>
                </a:cubicBezTo>
                <a:cubicBezTo>
                  <a:pt x="2092" y="405"/>
                  <a:pt x="2087" y="373"/>
                  <a:pt x="2083" y="342"/>
                </a:cubicBezTo>
                <a:cubicBezTo>
                  <a:pt x="2052" y="435"/>
                  <a:pt x="2031" y="528"/>
                  <a:pt x="2012" y="625"/>
                </a:cubicBezTo>
                <a:cubicBezTo>
                  <a:pt x="2005" y="664"/>
                  <a:pt x="1989" y="702"/>
                  <a:pt x="1989" y="742"/>
                </a:cubicBezTo>
                <a:cubicBezTo>
                  <a:pt x="1989" y="754"/>
                  <a:pt x="2000" y="707"/>
                  <a:pt x="2000" y="707"/>
                </a:cubicBezTo>
                <a:cubicBezTo>
                  <a:pt x="2002" y="692"/>
                  <a:pt x="2013" y="393"/>
                  <a:pt x="2047" y="578"/>
                </a:cubicBezTo>
                <a:cubicBezTo>
                  <a:pt x="2053" y="664"/>
                  <a:pt x="2071" y="750"/>
                  <a:pt x="2071" y="836"/>
                </a:cubicBezTo>
                <a:cubicBezTo>
                  <a:pt x="2071" y="860"/>
                  <a:pt x="2035" y="907"/>
                  <a:pt x="2059" y="907"/>
                </a:cubicBezTo>
                <a:cubicBezTo>
                  <a:pt x="2084" y="907"/>
                  <a:pt x="2072" y="858"/>
                  <a:pt x="2083" y="836"/>
                </a:cubicBezTo>
                <a:cubicBezTo>
                  <a:pt x="2141" y="719"/>
                  <a:pt x="2121" y="740"/>
                  <a:pt x="2189" y="695"/>
                </a:cubicBezTo>
                <a:cubicBezTo>
                  <a:pt x="2185" y="734"/>
                  <a:pt x="2183" y="774"/>
                  <a:pt x="2177" y="813"/>
                </a:cubicBezTo>
                <a:cubicBezTo>
                  <a:pt x="2175" y="825"/>
                  <a:pt x="2158" y="858"/>
                  <a:pt x="2165" y="848"/>
                </a:cubicBezTo>
                <a:cubicBezTo>
                  <a:pt x="2294" y="669"/>
                  <a:pt x="2168" y="783"/>
                  <a:pt x="2330" y="660"/>
                </a:cubicBezTo>
                <a:cubicBezTo>
                  <a:pt x="2314" y="691"/>
                  <a:pt x="2310" y="732"/>
                  <a:pt x="2283" y="754"/>
                </a:cubicBezTo>
                <a:cubicBezTo>
                  <a:pt x="2259" y="774"/>
                  <a:pt x="2123" y="786"/>
                  <a:pt x="2095" y="789"/>
                </a:cubicBezTo>
                <a:cubicBezTo>
                  <a:pt x="2071" y="781"/>
                  <a:pt x="2038" y="787"/>
                  <a:pt x="2024" y="766"/>
                </a:cubicBezTo>
                <a:cubicBezTo>
                  <a:pt x="1924" y="617"/>
                  <a:pt x="1765" y="295"/>
                  <a:pt x="1765" y="295"/>
                </a:cubicBezTo>
                <a:cubicBezTo>
                  <a:pt x="1750" y="206"/>
                  <a:pt x="1756" y="117"/>
                  <a:pt x="1706" y="142"/>
                </a:cubicBezTo>
                <a:cubicBezTo>
                  <a:pt x="1654" y="168"/>
                  <a:pt x="1663" y="253"/>
                  <a:pt x="1624" y="295"/>
                </a:cubicBezTo>
                <a:cubicBezTo>
                  <a:pt x="1484" y="445"/>
                  <a:pt x="1316" y="568"/>
                  <a:pt x="1177" y="719"/>
                </a:cubicBezTo>
                <a:cubicBezTo>
                  <a:pt x="869" y="1054"/>
                  <a:pt x="1015" y="918"/>
                  <a:pt x="754" y="1142"/>
                </a:cubicBezTo>
                <a:cubicBezTo>
                  <a:pt x="583" y="1090"/>
                  <a:pt x="714" y="1143"/>
                  <a:pt x="742" y="707"/>
                </a:cubicBezTo>
                <a:cubicBezTo>
                  <a:pt x="752" y="551"/>
                  <a:pt x="709" y="577"/>
                  <a:pt x="801" y="554"/>
                </a:cubicBezTo>
                <a:cubicBezTo>
                  <a:pt x="813" y="562"/>
                  <a:pt x="823" y="583"/>
                  <a:pt x="836" y="578"/>
                </a:cubicBezTo>
                <a:cubicBezTo>
                  <a:pt x="852" y="572"/>
                  <a:pt x="854" y="548"/>
                  <a:pt x="859" y="531"/>
                </a:cubicBezTo>
                <a:cubicBezTo>
                  <a:pt x="870" y="492"/>
                  <a:pt x="916" y="436"/>
                  <a:pt x="883" y="413"/>
                </a:cubicBezTo>
                <a:cubicBezTo>
                  <a:pt x="852" y="392"/>
                  <a:pt x="843" y="475"/>
                  <a:pt x="824" y="507"/>
                </a:cubicBezTo>
                <a:cubicBezTo>
                  <a:pt x="792" y="562"/>
                  <a:pt x="761" y="617"/>
                  <a:pt x="730" y="672"/>
                </a:cubicBezTo>
                <a:cubicBezTo>
                  <a:pt x="702" y="807"/>
                  <a:pt x="666" y="963"/>
                  <a:pt x="601" y="1084"/>
                </a:cubicBezTo>
                <a:cubicBezTo>
                  <a:pt x="548" y="1184"/>
                  <a:pt x="470" y="1269"/>
                  <a:pt x="412" y="1366"/>
                </a:cubicBezTo>
                <a:cubicBezTo>
                  <a:pt x="365" y="1173"/>
                  <a:pt x="372" y="975"/>
                  <a:pt x="354" y="778"/>
                </a:cubicBezTo>
                <a:cubicBezTo>
                  <a:pt x="322" y="786"/>
                  <a:pt x="286" y="820"/>
                  <a:pt x="259" y="801"/>
                </a:cubicBezTo>
                <a:cubicBezTo>
                  <a:pt x="229" y="780"/>
                  <a:pt x="247" y="661"/>
                  <a:pt x="236" y="695"/>
                </a:cubicBezTo>
                <a:cubicBezTo>
                  <a:pt x="222" y="740"/>
                  <a:pt x="244" y="789"/>
                  <a:pt x="248" y="836"/>
                </a:cubicBezTo>
                <a:cubicBezTo>
                  <a:pt x="244" y="875"/>
                  <a:pt x="210" y="924"/>
                  <a:pt x="236" y="954"/>
                </a:cubicBezTo>
                <a:cubicBezTo>
                  <a:pt x="257" y="978"/>
                  <a:pt x="316" y="902"/>
                  <a:pt x="330" y="931"/>
                </a:cubicBezTo>
                <a:cubicBezTo>
                  <a:pt x="365" y="1001"/>
                  <a:pt x="338" y="1088"/>
                  <a:pt x="342" y="1166"/>
                </a:cubicBezTo>
                <a:cubicBezTo>
                  <a:pt x="365" y="1127"/>
                  <a:pt x="390" y="1088"/>
                  <a:pt x="412" y="1048"/>
                </a:cubicBezTo>
                <a:cubicBezTo>
                  <a:pt x="445" y="986"/>
                  <a:pt x="472" y="921"/>
                  <a:pt x="506" y="860"/>
                </a:cubicBezTo>
                <a:cubicBezTo>
                  <a:pt x="657" y="592"/>
                  <a:pt x="594" y="762"/>
                  <a:pt x="648" y="601"/>
                </a:cubicBezTo>
                <a:cubicBezTo>
                  <a:pt x="677" y="235"/>
                  <a:pt x="636" y="681"/>
                  <a:pt x="624" y="778"/>
                </a:cubicBezTo>
                <a:cubicBezTo>
                  <a:pt x="620" y="758"/>
                  <a:pt x="632" y="719"/>
                  <a:pt x="612" y="719"/>
                </a:cubicBezTo>
                <a:cubicBezTo>
                  <a:pt x="566" y="719"/>
                  <a:pt x="535" y="800"/>
                  <a:pt x="506" y="825"/>
                </a:cubicBezTo>
                <a:cubicBezTo>
                  <a:pt x="453" y="869"/>
                  <a:pt x="343" y="865"/>
                  <a:pt x="283" y="872"/>
                </a:cubicBezTo>
                <a:cubicBezTo>
                  <a:pt x="267" y="915"/>
                  <a:pt x="253" y="959"/>
                  <a:pt x="236" y="1001"/>
                </a:cubicBezTo>
                <a:cubicBezTo>
                  <a:pt x="227" y="1024"/>
                  <a:pt x="259" y="931"/>
                  <a:pt x="259" y="931"/>
                </a:cubicBezTo>
                <a:cubicBezTo>
                  <a:pt x="266" y="877"/>
                  <a:pt x="261" y="784"/>
                  <a:pt x="318" y="754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2"/>
          <a:stretch/>
        </p:blipFill>
        <p:spPr>
          <a:xfrm>
            <a:off x="5791320" y="0"/>
            <a:ext cx="3352680" cy="335268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>
            <a:off x="0" y="0"/>
            <a:ext cx="6019920" cy="387504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2"/>
          <p:cNvSpPr>
            <a:spLocks noGrp="1"/>
          </p:cNvSpPr>
          <p:nvPr>
            <p:ph type="title"/>
          </p:nvPr>
        </p:nvSpPr>
        <p:spPr>
          <a:xfrm>
            <a:off x="3657600" y="236196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ook Antiqua"/>
              </a:rPr>
              <a:t>Oomycetes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228600" y="42840"/>
            <a:ext cx="8915400" cy="681516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181120" y="304920"/>
            <a:ext cx="3962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Oomycetes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228240" y="3733560"/>
            <a:ext cx="441972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Cell wal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cellulose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Body structure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branching filaments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few cell walls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5345280" y="2286000"/>
            <a:ext cx="3798720" cy="457200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730840" cy="685800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257440" y="68544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Book Antiqua"/>
              </a:rPr>
              <a:t>Oomycetes</a:t>
            </a:r>
            <a:endParaRPr b="0" lang="en-US" sz="5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0" y="4419720"/>
            <a:ext cx="419112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Causes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potato blight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root, fruit, crown rot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puckeye rot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b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676760" cy="6858000"/>
          </a:xfrm>
          <a:prstGeom prst="rect">
            <a:avLst/>
          </a:prstGeom>
          <a:ln w="0">
            <a:noFill/>
          </a:ln>
        </p:spPr>
      </p:pic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724280" y="22824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Book Antiqua"/>
              </a:rPr>
              <a:t>Oomycetes</a:t>
            </a:r>
            <a:endParaRPr b="0" lang="en-US" sz="5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648320" y="1752480"/>
            <a:ext cx="44956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Causes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downy mildew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round worm parasite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ac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133720" y="228600"/>
            <a:ext cx="4495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Chytridiomycota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-360" y="1447920"/>
            <a:ext cx="35053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Known as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Water Mold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Reproduction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flagellated sex cells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Probable ancestor of  modern fungi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3505320" y="1752480"/>
            <a:ext cx="5638680" cy="408312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4191120" y="594360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Sprogyra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with chytrid parasite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6324480" y="1219320"/>
            <a:ext cx="609840" cy="838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3429000" y="5486400"/>
            <a:ext cx="91440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5e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408560" cy="6858000"/>
          </a:xfrm>
          <a:prstGeom prst="rect">
            <a:avLst/>
          </a:prstGeom>
          <a:ln w="0">
            <a:noFill/>
          </a:ln>
        </p:spPr>
      </p:pic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495680" y="380520"/>
            <a:ext cx="46483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Chytridiomycota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Habitat 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aquatic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Cell wal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chitin like fungi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Body structure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long filaments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Mostly Unicellular 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Mostly Parasites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979960"/>
          </a:xfrm>
          <a:prstGeom prst="rect">
            <a:avLst/>
          </a:prstGeom>
          <a:ln w="0">
            <a:noFill/>
          </a:ln>
        </p:spPr>
      </p:pic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-360" y="380520"/>
            <a:ext cx="4343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Myxomycota</a:t>
            </a: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0" y="4190760"/>
            <a:ext cx="3657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Example is plasmodial slime molds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multinucleate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4343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Myxomycota</a:t>
            </a: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733920" y="3733920"/>
            <a:ext cx="541008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Body structure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One enormous cell  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plasmodium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many nuclei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Book Antiqu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covered in slime sheath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Book Antiqu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leaves a slime track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733920" y="0"/>
            <a:ext cx="5410080" cy="3751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0" y="3470400"/>
            <a:ext cx="3733920" cy="338760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609480" y="114300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Habitat : Terrestria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9491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0" y="1066680"/>
            <a:ext cx="9144000" cy="6077160"/>
          </a:xfrm>
          <a:prstGeom prst="rect">
            <a:avLst/>
          </a:prstGeom>
          <a:ln w="0">
            <a:noFill/>
          </a:ln>
        </p:spPr>
      </p:pic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952880" y="541008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Myxomycota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0" y="-36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Life Cycle (reproduction)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pends most of life as a plasmodium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produces fruiting bodies with gametes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gametes behave like amoebas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wo gametes meet--&gt; produce new plasmodium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495680" y="3352680"/>
            <a:ext cx="3302280" cy="17780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200400" y="2895480"/>
            <a:ext cx="3276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What distinguishes these?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228600" y="4419720"/>
            <a:ext cx="1536840" cy="19810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3502080" y="0"/>
            <a:ext cx="1814400" cy="26668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4"/>
          <a:srcRect l="0" t="10010" r="0" b="7508"/>
          <a:stretch/>
        </p:blipFill>
        <p:spPr>
          <a:xfrm>
            <a:off x="2057400" y="4343400"/>
            <a:ext cx="2341440" cy="25146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5"/>
          <a:srcRect l="15222" t="19905" r="10871" b="0"/>
          <a:stretch/>
        </p:blipFill>
        <p:spPr>
          <a:xfrm>
            <a:off x="0" y="-76320"/>
            <a:ext cx="2743200" cy="22719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6"/>
          <a:stretch/>
        </p:blipFill>
        <p:spPr>
          <a:xfrm>
            <a:off x="6172200" y="4405320"/>
            <a:ext cx="2971800" cy="24526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7"/>
          <a:stretch/>
        </p:blipFill>
        <p:spPr>
          <a:xfrm>
            <a:off x="5334120" y="0"/>
            <a:ext cx="3657600" cy="26575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8"/>
          <a:srcRect l="7928" t="30774" r="65665" b="30774"/>
          <a:stretch/>
        </p:blipFill>
        <p:spPr>
          <a:xfrm>
            <a:off x="0" y="2133720"/>
            <a:ext cx="3200400" cy="2198520"/>
          </a:xfrm>
          <a:prstGeom prst="rect">
            <a:avLst/>
          </a:prstGeom>
          <a:ln w="0">
            <a:noFill/>
          </a:ln>
        </p:spPr>
      </p:pic>
      <p:cxnSp>
        <p:nvCxnSpPr>
          <p:cNvPr id="58" name=""/>
          <p:cNvCxnSpPr/>
          <p:nvPr/>
        </p:nvCxnSpPr>
        <p:spPr>
          <a:xfrm flipH="1" rot="16200000">
            <a:off x="496080" y="2781720"/>
            <a:ext cx="6858720" cy="1294560"/>
          </a:xfrm>
          <a:prstGeom prst="bentConnector3">
            <a:avLst>
              <a:gd name="adj1" fmla="val 63513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59" name=""/>
          <p:cNvCxnSpPr/>
          <p:nvPr/>
        </p:nvCxnSpPr>
        <p:spPr>
          <a:xfrm flipV="1">
            <a:off x="31680" y="2895120"/>
            <a:ext cx="9113040" cy="1435680"/>
          </a:xfrm>
          <a:prstGeom prst="bentConnector3">
            <a:avLst>
              <a:gd name="adj1" fmla="val 35831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60" name=""/>
          <p:cNvSpPr/>
          <p:nvPr/>
        </p:nvSpPr>
        <p:spPr>
          <a:xfrm>
            <a:off x="7086600" y="312408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By locomotion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019920" cy="395136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0" y="3932280"/>
            <a:ext cx="4572000" cy="292572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29200" y="83808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Myxomycota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038480" y="1905120"/>
            <a:ext cx="5105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Life Cycle (reproduction)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pends most of life as a plasmodium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produces fruiting bodies with gametes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gametes behave like amoebas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wo gametes meet--&gt; produce new plasmodium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51920" y="228600"/>
            <a:ext cx="4343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Acrasiomycota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4419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Example is cellular slime molds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4648320" y="0"/>
            <a:ext cx="4572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-228600" y="304920"/>
            <a:ext cx="5054760" cy="6553080"/>
          </a:xfrm>
          <a:prstGeom prst="rect">
            <a:avLst/>
          </a:prstGeom>
          <a:ln w="0">
            <a:noFill/>
          </a:ln>
        </p:spPr>
      </p:pic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800240" y="228600"/>
            <a:ext cx="4343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Acrasiomycota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495320" y="1905120"/>
            <a:ext cx="4953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Life Cycle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most of life as AMOEBA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2" marL="1074240" indent="-214560">
              <a:spcBef>
                <a:spcPts val="601"/>
              </a:spcBef>
              <a:buClr>
                <a:srgbClr val="ffffff"/>
              </a:buClr>
              <a:buFont typeface="Book Antiqu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one nucleus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2" marL="1074240" indent="-214560">
              <a:spcBef>
                <a:spcPts val="601"/>
              </a:spcBef>
              <a:buClr>
                <a:srgbClr val="ffffff"/>
              </a:buClr>
              <a:buFont typeface="Book Antiqu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haploid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in stress, come together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2" marL="1074240" indent="-214560">
              <a:spcBef>
                <a:spcPts val="601"/>
              </a:spcBef>
              <a:buClr>
                <a:srgbClr val="ffffff"/>
              </a:buClr>
              <a:buFont typeface="Book Antiqu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orm “slug” or “grex”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2" marL="1074240" indent="-214560">
              <a:spcBef>
                <a:spcPts val="601"/>
              </a:spcBef>
              <a:buClr>
                <a:srgbClr val="ffffff"/>
              </a:buClr>
              <a:buFont typeface="Book Antiqu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nd up fruiting body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newly hatched cells are amoeba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915400" cy="687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8" name=""/>
          <p:cNvGraphicFramePr/>
          <p:nvPr/>
        </p:nvGraphicFramePr>
        <p:xfrm>
          <a:off x="1676520" y="0"/>
          <a:ext cx="565776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0"/>
                    <a:ext cx="565776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rcRect l="6084" t="7269" r="0" b="0"/>
          <a:stretch/>
        </p:blipFill>
        <p:spPr>
          <a:xfrm>
            <a:off x="5562720" y="5334120"/>
            <a:ext cx="3581280" cy="15238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685800" y="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Animal-like Protists-Protozoa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rcRect l="8239" t="9604" r="9345" b="16000"/>
          <a:stretch/>
        </p:blipFill>
        <p:spPr>
          <a:xfrm>
            <a:off x="6477120" y="685800"/>
            <a:ext cx="2666880" cy="14763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6858000" y="2209680"/>
            <a:ext cx="2286000" cy="13953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7010280" y="3730680"/>
            <a:ext cx="1981440" cy="15192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5"/>
          <a:stretch/>
        </p:blipFill>
        <p:spPr>
          <a:xfrm>
            <a:off x="2666880" y="5715000"/>
            <a:ext cx="2895840" cy="11430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0" y="533520"/>
            <a:ext cx="9144000" cy="63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Phylum Sarcodinian -move with pseudopods 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-ex. amoebas (</a:t>
            </a: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&amp; foraminifera and radiolaria)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-One type of amoeba causes dysentery. 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Phylum Ciliphora - ciliates (cilia)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-ex </a:t>
            </a: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Paramecium, Blepharisma, Stentor &amp; Vorticella. 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Phylum Zooflagellates - flagellates also called zoomastigina. Many cause disease in humans. 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-ex </a:t>
            </a: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Trypanosoma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which causes African s.s.; or </a:t>
            </a: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Giardia</a:t>
            </a: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Phylum Sporozoa -nonmotile, spore bearing, 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-all parasitic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-ex. </a:t>
            </a: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Plasmodium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which causes malaria.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4343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Sarcodinian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0" y="457200"/>
            <a:ext cx="495288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Locomotion: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pseudopodia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all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allows for great flexibility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Types (life styles)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Amoeba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marine/terres/parasitic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Distinctive feature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Ameobiod movement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Cytoplasmic streaming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4495680" cy="34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Sarcodinian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240" y="5105520"/>
            <a:ext cx="8915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Amoeba proteus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Entamoeba hixtolyca (causes amoebic dysentery)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683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4622760" cy="31752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4800600" y="2057400"/>
            <a:ext cx="327672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Nucleus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Water Vacuole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Food vacuole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Pseudopodia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Contractile Vacuole 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(not shown)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ook Antiqua"/>
              </a:rPr>
              <a:t>Ciliaphorans</a:t>
            </a: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410080" y="761760"/>
            <a:ext cx="373392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Locomotion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cilia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Lifestyle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most free living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aquatic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Distinctive feature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two nuclei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Book Antiqu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macro: boss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Book Antiqu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micro: sex. repro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Examples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Paramecium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Stentor, Vorticella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Blepherisma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52280" y="838080"/>
            <a:ext cx="5322960" cy="36198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rcRect l="23588" t="25518" r="63549" b="64158"/>
          <a:stretch/>
        </p:blipFill>
        <p:spPr>
          <a:xfrm>
            <a:off x="2666880" y="4343400"/>
            <a:ext cx="2438640" cy="2438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4T16:22:35Z</dcterms:created>
  <dc:creator>Cindy Blakeslee</dc:creator>
  <dc:description/>
  <dc:language>en-US</dc:language>
  <cp:lastModifiedBy>Tricia</cp:lastModifiedBy>
  <cp:lastPrinted>2001-03-06T16:11:39Z</cp:lastPrinted>
  <dcterms:modified xsi:type="dcterms:W3CDTF">2007-05-16T13:03:55Z</dcterms:modified>
  <cp:revision>50</cp:revision>
  <dc:subject/>
  <dc:title> Kingdom Protista</dc:title>
</cp:coreProperties>
</file>